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98D9-3080-4EE0-B809-508A570DA55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E71C-2A25-423F-8701-2A92ECDE173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3394-80B7-4A6E-A390-C4211735E12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EDFE-250A-4D2E-B179-F7E65AF5B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41D3-8A03-4E27-99EB-3BEAE8DF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D736-A482-4174-AB57-E0324EFFE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F7FC-6C4B-4C2F-806D-14A5FD1C6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275F-61C9-4FF6-9F26-C0FA0536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3DDC-9382-4606-87C1-D9079CF4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8993-D28C-4D1E-8063-2AA78B6A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C9C0-1B22-4DB5-9056-B4472FA2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9E9D-DA44-451C-8507-F258256BB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CB8B-7943-4BBF-886C-38921D59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26A6-CCB0-4070-9064-7A017371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690C-9884-4F11-B515-FD6D8AFF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FD1A-D105-4788-8D86-FA01CAB8C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UMTS - Security</a:t>
            </a:r>
            <a:br>
              <a:rPr sz="4800"/>
            </a:b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Stand der Standardisieru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Roland Schmi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Nova Deutsche Telekom Innovationsgesellsc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echnologiezentrum Darmsta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tefan Pü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Mo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Operationen auf der USI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1219320"/>
          <a:ext cx="6858000" cy="48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6858000" cy="48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010280" y="5195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HLR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10280" y="57294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Key Fresh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541008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594360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G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22520" y="1523880"/>
          <a:ext cx="387828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2520" y="1523880"/>
                    <a:ext cx="38782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2860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U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776680" y="1523880"/>
          <a:ext cx="37764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6680" y="1523880"/>
                    <a:ext cx="37764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0492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KASUMI: Der UMTS Cipher- and Integrity Algorithm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ASUMI = Jap.: Nebel (Blockchiff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rschlüsselungsalgo. f8: KASUMI in OFB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iert auf der Blockchiffre MISTY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Designer: M. Matsui, Mitsubish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twickelt von ETSI SAGE (07/99-10/99)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SAGE: Security Algorithm Group of Exper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aluation durch drei Teams (11/99-12/99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rt Preneel/Lars Knudsen (Leuven/Ber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acques Stern (ENS Par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ed Piper (Royal Holloway Lond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ublikation erwartet unter www.etsi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Ausblick: 3G Security Work Items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P based 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bile execution environment (MexE)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isibility and configu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M application secur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aud information gathering syste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cation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HE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Literaturhinwe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alker M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Security of 3G System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 Proc. EUROCRYPT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ity for the Third-Generation Mobile Radio System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M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British Telecom. Engineering Journal, Aug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Transport of Authentication Data in Third-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Generation Mobile Network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CQRE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Interoperation of 2G and 3G Mobile Networks,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3G2000/Mobile Communication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Überbli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- Standardisierungsgrem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Übersicht UMTS-Sicherh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inzip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rungen gegenüber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Authentikationsprotokol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Authentication and Key Agreement Protoc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2G/3G Inter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Verschlüsselungsalgorithmus KAS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sb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Beteiligte Gremi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 (3rd Geneneration Partnership Pro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aufbauend auf GSM Spezifik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teiligte Organis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TSI (Europ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IB, TTC (Jap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TA (Kor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1 (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WTS (Chi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basierend auf ANSI/TIA-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Security Working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763120" cy="45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gründet Februar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. Walker, Vodafone (chair)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. Pütz, T-Mobil; M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ovici,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ucent (vice chai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tretene Parte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rsteller: Alcatel, Ericsson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mplu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Lucent, Mitsubishi, Motorola, Nokia , Panasonic, Siem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treiber: BT, FT, ICO, MMO, NTT DoCoMo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komtel, Philip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lenor, Telia, T-Mobil, V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hörden: BMWi, DTI, Re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sis-Dokumen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GPP TS 33.102 UMTS Security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icherheitsprinzipien von UM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18280" cy="45514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basiert auf 2G Sicherheitsarchitekt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währte 2G Sicherheitselemente wie die SIM-Karte als Sicherheitsmodul werden übernomm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verbessert die Sicherheit von 2G Syst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kannte Schwächen von 2G Systemen werden korrigier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wird neue Sicherheitsdienste ermöglic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3240" y="533520"/>
            <a:ext cx="80186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rkannte Schwächen der 2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015040" cy="45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ktive Attacken (“IMSI Catching”) basierend auf “False Base Station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schlüsselung endet in den Basisstati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hlüssel und Authentikationsdaten werden im Klartext innerhalb und zwischen Netzen übermitte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ein 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oretische Attacken auf den Verschlüsselungs-algorithmus A5/1 veröffentl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Verbesserungen durch 3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thentikation des HLRs gegenüber der US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achweis frischer Schlüssel (Key freshn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eue Algorit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128 Bit Schlüssellängen (K, CK, I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Verschlüsselung endet im RN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Optionaler Die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twork-wide user traffic confidenti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Authentication and Key Agreement (AKA)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219320" y="1600200"/>
          <a:ext cx="6705360" cy="49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6705360" cy="49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Erzeugen des UMTS Authentikationsvektors im AU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266840" y="1498680"/>
          <a:ext cx="635328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6840" y="1498680"/>
                    <a:ext cx="635328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3T11:20:17Z</dcterms:created>
  <dc:creator>schmitz</dc:creator>
  <dc:description/>
  <dc:language>en-US</dc:language>
  <cp:lastModifiedBy>Superuser</cp:lastModifiedBy>
  <cp:lastPrinted>2000-03-26T20:41:21Z</cp:lastPrinted>
  <dcterms:modified xsi:type="dcterms:W3CDTF">2002-04-20T19:07:24Z</dcterms:modified>
  <cp:revision>25</cp:revision>
  <dc:subject/>
  <dc:title>Secure Interoperation  of 2G and 3G Networks</dc:title>
</cp:coreProperties>
</file>