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D2E9-93C8-4150-9F0F-5D0F5E4E078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ab 2003 zugelassene Internet-Schnittstelle für Ereignisdaten muss noch um den Schutzmechanismus IPSec ergänzt werden (TR TKÜ 4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 Vorwärstrichtung Vom/zum  Endgerät SETUP, Vom zum Netz IAM, Rückwärtsrichtung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der IN Nummer: Übermittlung der Nutzinformation CC per ISDN und der Ereignisdaten (IRI) per FTAM. Es müssen u.a. die Rufnummern A, IN# und B erfaßt we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A: Übermittlung der Nutzinformation CC per ISDN und der Ereignisdaten (IRI) per FTAM. Es müssen u.a. die Rufnummern A und IN# erfaßt werden. Zusätzlich Subscriber Controlled Input (SCI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B: Übermittlung der Nutzinformation CC per ISDN und der Ereignisdaten (IRI) per FTAM. Es müssen die in der CLI und ggf. Generic Number enthaltenen Rufnummern A und IN# erfaßt we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itere Parameter in allen Überwachungsfällen abhä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ig von evt. genutzten Zusatzdiensten (supplementary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CP Call Contro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SP Service SWitching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P Service Switching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TS Base Transceiver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SC Base Station 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GSN Gateway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MSC Gateway 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LR Home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C Mobil Switching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U Packet 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NC Radio Link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GSN Serving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LR Visitor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93B4-3612-4FA2-8233-07E7E33E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80EB-E33C-4A91-90B4-14AF309B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8A63-E209-4EF3-AC81-A47D09C1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E670-A411-4ADC-BD6B-CFF00D307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F3D8-A366-458C-8E0B-2656D092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A2EE-99D1-4589-A16A-AE209E54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D0EF-5203-4E7C-9A6D-CC224E81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ED5D-84E4-4801-8756-1D6F00E4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89C3-6462-4DE3-9FC6-554D865A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57A1-C8DF-45A5-9980-ABEFCA3C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04B0-D688-4B8D-8797-6F76ECF7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E01E-1C05-4BCA-9C67-B2AC2ECA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6A59-032C-4D56-AFF6-DFB38054BA0A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5ED9-BEFC-4D1F-B1CC-58670165928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arl-heinz.helf@regtp.de" TargetMode="External"/><Relationship Id="rId2" Type="http://schemas.openxmlformats.org/officeDocument/2006/relationships/hyperlink" Target="http://www.regtp.de/" TargetMode="External"/><Relationship Id="rId3" Type="http://schemas.openxmlformats.org/officeDocument/2006/relationships/package" Target="../embeddings/oleObject1.docx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Technische Richtlinie, International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Karl-Heinz Helf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Regulierungsbehörde für Telekommunikation und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Referat IS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karl-heinz.helf@regtp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www.regtp.de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ische Regulierung Telekommunikation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. Umsetzung von Überwachungsmaßnahmen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499C-D84D-4423-9AC8-DE8F83931E4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A3E6C5-4D6D-42E8-9C9B-1D2312314DD9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für den Internetzuga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3733920" y="4952880"/>
            <a:ext cx="0" cy="838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315200" y="4952880"/>
            <a:ext cx="0" cy="76212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562720" y="4876920"/>
            <a:ext cx="0" cy="838080"/>
          </a:xfrm>
          <a:prstGeom prst="line">
            <a:avLst/>
          </a:prstGeom>
          <a:ln w="7632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09680" y="1447920"/>
            <a:ext cx="3079440" cy="2019240"/>
            <a:chOff x="2209680" y="1447920"/>
            <a:chExt cx="3079440" cy="2019240"/>
          </a:xfrm>
        </p:grpSpPr>
        <p:grpSp>
          <p:nvGrpSpPr>
            <p:cNvPr id="756" name=""/>
            <p:cNvGrpSpPr/>
            <p:nvPr/>
          </p:nvGrpSpPr>
          <p:grpSpPr>
            <a:xfrm>
              <a:off x="3886200" y="1600200"/>
              <a:ext cx="1402920" cy="721800"/>
              <a:chOff x="3886200" y="1600200"/>
              <a:chExt cx="1402920" cy="721800"/>
            </a:xfrm>
          </p:grpSpPr>
          <p:sp>
            <p:nvSpPr>
              <p:cNvPr id="757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988800" y="1656360"/>
                <a:ext cx="119952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048920" y="1902600"/>
                <a:ext cx="10936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ST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 flipV="1">
              <a:off x="3809880" y="2286000"/>
              <a:ext cx="609840" cy="116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209680" y="1676520"/>
              <a:ext cx="1403280" cy="721800"/>
              <a:chOff x="2209680" y="1676520"/>
              <a:chExt cx="1403280" cy="721800"/>
            </a:xfrm>
          </p:grpSpPr>
          <p:sp>
            <p:nvSpPr>
              <p:cNvPr id="777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312280" y="1732680"/>
                <a:ext cx="119988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318400" y="1978920"/>
                <a:ext cx="12034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P-Net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 flipH="1" flipV="1">
              <a:off x="3048120" y="2438280"/>
              <a:ext cx="558720" cy="102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716280" y="2209320"/>
              <a:ext cx="17640" cy="12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29720" y="144792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Voice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598920" y="1839960"/>
              <a:ext cx="334800" cy="363240"/>
              <a:chOff x="3598920" y="1839960"/>
              <a:chExt cx="334800" cy="363240"/>
            </a:xfrm>
          </p:grpSpPr>
          <p:sp>
            <p:nvSpPr>
              <p:cNvPr id="799" name=""/>
              <p:cNvSpPr/>
              <p:nvPr/>
            </p:nvSpPr>
            <p:spPr>
              <a:xfrm>
                <a:off x="3832920" y="1840680"/>
                <a:ext cx="100440" cy="361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02520" y="2129400"/>
                <a:ext cx="212040" cy="7380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598920" y="1854720"/>
                <a:ext cx="216000" cy="3265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609000" y="1869120"/>
                <a:ext cx="196920" cy="12996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615840" y="1876680"/>
                <a:ext cx="177840" cy="1144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61476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62520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642480" y="18766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52920" y="1876680"/>
                <a:ext cx="15840" cy="9648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669120" y="187668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681360" y="187668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69684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709080" y="187956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725280" y="187956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735720" y="187956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749040" y="187956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765240" y="188064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780360" y="1880640"/>
                <a:ext cx="15840" cy="10548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792600" y="1880640"/>
                <a:ext cx="15840" cy="10800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61476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2520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63780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6529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6691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68136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69684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7090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7252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7357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7479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76524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7803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79260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61476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62520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637800" y="1971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652920" y="1972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669120" y="1975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68136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69684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706200" y="1978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725280" y="1981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735720" y="1982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747960" y="1983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765240" y="1983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780360" y="1985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792600" y="1987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612240" y="18766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622320" y="196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637800" y="1879560"/>
                <a:ext cx="15840" cy="910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652920" y="187956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669120" y="187956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678480" y="18795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69288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706200" y="18806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725280" y="18806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735720" y="188172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747960" y="188172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765240" y="188172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775680" y="188172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792600" y="188172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622320" y="1879560"/>
                <a:ext cx="15840" cy="6444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625200" y="1957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625200" y="1945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625200" y="1954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06280" y="1876680"/>
                <a:ext cx="720" cy="1144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615840" y="1875600"/>
                <a:ext cx="720" cy="9468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609000" y="1983960"/>
                <a:ext cx="196920" cy="16956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615840" y="1991520"/>
                <a:ext cx="177840" cy="12996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615840" y="2010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615840" y="199152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669120" y="209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614760" y="199260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614760" y="1988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614760" y="2084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612240" y="1994400"/>
                <a:ext cx="15840" cy="8820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642480" y="1997280"/>
                <a:ext cx="15840" cy="9468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37800" y="1990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637800" y="209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637800" y="19972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52920" y="199836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6529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52920" y="2093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652920" y="1998360"/>
                <a:ext cx="15840" cy="93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669120" y="19983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6691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669120" y="19990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681360" y="20012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681360" y="1995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681360" y="2099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678480" y="2001240"/>
                <a:ext cx="15840" cy="9792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696840" y="200232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696840" y="1996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696840" y="2099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692880" y="200304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709080" y="200304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709080" y="1998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706200" y="2103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06200" y="20048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25280" y="200484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725280" y="1999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725280" y="2106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725280" y="200484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735720" y="20070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735720" y="2002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735720" y="2109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35720" y="200700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7490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747960" y="2003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47960" y="21121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74796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765240" y="20106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76524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65240" y="2115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7652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780360" y="2011680"/>
                <a:ext cx="15840" cy="10692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78036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780360" y="2117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775680" y="2011680"/>
                <a:ext cx="15840" cy="10512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792600" y="200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792600" y="2118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625200" y="1995480"/>
                <a:ext cx="15840" cy="9216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625200" y="1989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625200" y="20865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622320" y="2079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622320" y="1996200"/>
                <a:ext cx="15840" cy="6372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625200" y="2074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625200" y="2063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625200" y="2070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806280" y="2011680"/>
                <a:ext cx="720" cy="11376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15840" y="1991520"/>
                <a:ext cx="720" cy="957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828240" y="1854720"/>
                <a:ext cx="15840" cy="34740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98920" y="1839960"/>
                <a:ext cx="334800" cy="1584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4495680" y="2209680"/>
              <a:ext cx="75960" cy="609480"/>
              <a:chOff x="4495680" y="2209680"/>
              <a:chExt cx="75960" cy="609480"/>
            </a:xfrm>
          </p:grpSpPr>
          <p:sp>
            <p:nvSpPr>
              <p:cNvPr id="939" name=""/>
              <p:cNvSpPr/>
              <p:nvPr/>
            </p:nvSpPr>
            <p:spPr>
              <a:xfrm>
                <a:off x="449568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57164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3886200" y="2209680"/>
              <a:ext cx="75960" cy="609480"/>
              <a:chOff x="3886200" y="2209680"/>
              <a:chExt cx="75960" cy="609480"/>
            </a:xfrm>
          </p:grpSpPr>
          <p:sp>
            <p:nvSpPr>
              <p:cNvPr id="942" name=""/>
              <p:cNvSpPr/>
              <p:nvPr/>
            </p:nvSpPr>
            <p:spPr>
              <a:xfrm>
                <a:off x="388620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96216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2901960" y="2279160"/>
              <a:ext cx="11880" cy="511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3124080" y="4952880"/>
            <a:ext cx="0" cy="83844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209520" y="2776680"/>
            <a:ext cx="8715960" cy="2368440"/>
            <a:chOff x="209520" y="2776680"/>
            <a:chExt cx="8715960" cy="2368440"/>
          </a:xfrm>
        </p:grpSpPr>
        <p:sp>
          <p:nvSpPr>
            <p:cNvPr id="947" name=""/>
            <p:cNvSpPr/>
            <p:nvPr/>
          </p:nvSpPr>
          <p:spPr>
            <a:xfrm>
              <a:off x="1173240" y="3749760"/>
              <a:ext cx="2573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3056040" y="3689280"/>
              <a:ext cx="147600" cy="14616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9" name="" descr=""/>
            <p:cNvPicPr/>
            <p:nvPr/>
          </p:nvPicPr>
          <p:blipFill>
            <a:blip r:embed="rId3"/>
            <a:stretch/>
          </p:blipFill>
          <p:spPr>
            <a:xfrm>
              <a:off x="914400" y="3083040"/>
              <a:ext cx="4968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 flipV="1">
              <a:off x="1174680" y="3476160"/>
              <a:ext cx="4680" cy="28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270440" y="3232080"/>
              <a:ext cx="947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Rockwell MT"/>
                </a:rPr>
                <a:t>POTS/ISD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1801080" y="3719520"/>
              <a:ext cx="73080" cy="73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3747960" y="3492360"/>
              <a:ext cx="0" cy="2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3894120" y="3376440"/>
              <a:ext cx="1400040" cy="920880"/>
              <a:chOff x="3894120" y="3376440"/>
              <a:chExt cx="1400040" cy="920880"/>
            </a:xfrm>
          </p:grpSpPr>
          <p:sp>
            <p:nvSpPr>
              <p:cNvPr id="955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996360" y="3447720"/>
                <a:ext cx="1197000" cy="79164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789360" y="3776760"/>
              <a:ext cx="171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733920" y="3875040"/>
              <a:ext cx="1560240" cy="152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M-Netzwe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256720" y="415764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TM/IP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5" name="" descr=""/>
            <p:cNvPicPr/>
            <p:nvPr/>
          </p:nvPicPr>
          <p:blipFill>
            <a:blip r:embed="rId4"/>
            <a:stretch/>
          </p:blipFill>
          <p:spPr>
            <a:xfrm>
              <a:off x="7130880" y="3143160"/>
              <a:ext cx="3556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5"/>
            <a:stretch/>
          </p:blipFill>
          <p:spPr>
            <a:xfrm>
              <a:off x="7145280" y="4257720"/>
              <a:ext cx="355680" cy="3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flipV="1">
              <a:off x="5991120" y="3315960"/>
              <a:ext cx="11397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91120" y="3792600"/>
              <a:ext cx="113976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5327640" y="3502080"/>
              <a:ext cx="558720" cy="608040"/>
              <a:chOff x="5327640" y="3502080"/>
              <a:chExt cx="558720" cy="608040"/>
            </a:xfrm>
          </p:grpSpPr>
          <p:sp>
            <p:nvSpPr>
              <p:cNvPr id="980" name=""/>
              <p:cNvSpPr/>
              <p:nvPr/>
            </p:nvSpPr>
            <p:spPr>
              <a:xfrm>
                <a:off x="5718240" y="3503520"/>
                <a:ext cx="168120" cy="604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333760" y="3986280"/>
                <a:ext cx="354240" cy="12384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327640" y="3527280"/>
                <a:ext cx="360360" cy="5461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344920" y="3551040"/>
                <a:ext cx="328680" cy="21744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356080" y="3564000"/>
                <a:ext cx="297000" cy="1918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35464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37192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400720" y="356400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418000" y="3564000"/>
                <a:ext cx="27000" cy="1616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445000" y="356400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465520" y="35640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49108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511600" y="356868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538600" y="356868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56240" y="3568680"/>
                <a:ext cx="2700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78560" y="356868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05560" y="3570120"/>
                <a:ext cx="2664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630760" y="3570120"/>
                <a:ext cx="27000" cy="17640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651280" y="3570120"/>
                <a:ext cx="27000" cy="18108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35464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37192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3928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418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445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46552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9108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11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538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55624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576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605560" y="35607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630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65128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35464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37192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392800" y="3722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418000" y="3724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445000" y="3728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46552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9108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506920" y="3733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538600" y="3738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556240" y="3740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576760" y="374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605560" y="37432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630760" y="3744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651280" y="3749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49960" y="35640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367240" y="3708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392800" y="3568680"/>
                <a:ext cx="27000" cy="1522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18000" y="3568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45000" y="356868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460840" y="356868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48460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506920" y="357012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538600" y="35701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556240" y="357192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576760" y="357192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605560" y="3571920"/>
                <a:ext cx="2664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622840" y="357192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651280" y="357192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67240" y="356868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71920" y="369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71920" y="367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71920" y="3693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673600" y="3564000"/>
                <a:ext cx="1800" cy="1918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56080" y="3562200"/>
                <a:ext cx="1800" cy="15876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44920" y="3743280"/>
                <a:ext cx="328680" cy="28404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56080" y="3755880"/>
                <a:ext cx="297000" cy="21744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356080" y="378756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56080" y="3755880"/>
                <a:ext cx="297000" cy="22068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45000" y="393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54640" y="3757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354640" y="3751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354640" y="391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349960" y="3760560"/>
                <a:ext cx="27000" cy="14796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00720" y="376560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392800" y="3754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92800" y="3922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392800" y="37656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18000" y="376704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418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418000" y="3925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418000" y="3767040"/>
                <a:ext cx="27000" cy="15732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45000" y="376704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445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445000" y="3768480"/>
                <a:ext cx="27000" cy="1605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465520" y="37717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465520" y="3762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465520" y="39355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460840" y="3771720"/>
                <a:ext cx="27000" cy="1638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491080" y="37735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491080" y="3763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491080" y="3936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484600" y="377496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511600" y="377496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511600" y="3767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506920" y="3943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506920" y="377820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538600" y="377820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538600" y="3768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538600" y="394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538600" y="37782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556240" y="378144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556240" y="3773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556240" y="395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556240" y="378144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5785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576760" y="3774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576760" y="3957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5767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605560" y="3787560"/>
                <a:ext cx="2664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605560" y="37782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605560" y="39621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605560" y="3787560"/>
                <a:ext cx="2664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630760" y="3789360"/>
                <a:ext cx="27000" cy="17928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630760" y="3778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630760" y="3967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622840" y="3789360"/>
                <a:ext cx="27000" cy="17604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651280" y="3781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651280" y="396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371920" y="3762360"/>
                <a:ext cx="27000" cy="15408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371920" y="3752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371920" y="3914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367240" y="3902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367240" y="3763800"/>
                <a:ext cx="27000" cy="10656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371920" y="389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371920" y="3876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371920" y="3887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673600" y="3789360"/>
                <a:ext cx="1800" cy="19044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356080" y="3755880"/>
                <a:ext cx="1800" cy="1605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710320" y="3527280"/>
                <a:ext cx="27000" cy="58104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327640" y="3502080"/>
                <a:ext cx="558720" cy="2700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7044120" y="347508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54560" y="4578480"/>
              <a:ext cx="58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7679160" y="2776680"/>
              <a:ext cx="1246320" cy="2221200"/>
              <a:chOff x="7679160" y="2776680"/>
              <a:chExt cx="1246320" cy="2221200"/>
            </a:xfrm>
          </p:grpSpPr>
          <p:sp>
            <p:nvSpPr>
              <p:cNvPr id="1122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828200" y="2950200"/>
                <a:ext cx="929880" cy="190836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79160" y="3707280"/>
                <a:ext cx="1246320" cy="18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7483320" y="331632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497720" y="442116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354840" y="4114800"/>
              <a:ext cx="84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ess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3527280" y="3546360"/>
              <a:ext cx="301320" cy="522000"/>
              <a:chOff x="3527280" y="3546360"/>
              <a:chExt cx="301320" cy="522000"/>
            </a:xfrm>
          </p:grpSpPr>
          <p:sp>
            <p:nvSpPr>
              <p:cNvPr id="1144" name=""/>
              <p:cNvSpPr/>
              <p:nvPr/>
            </p:nvSpPr>
            <p:spPr>
              <a:xfrm>
                <a:off x="3527280" y="3546360"/>
                <a:ext cx="301320" cy="52200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80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527280" y="363348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527280" y="383976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1976400" y="3463920"/>
              <a:ext cx="1851120" cy="631800"/>
              <a:chOff x="1976400" y="3463920"/>
              <a:chExt cx="1851120" cy="631800"/>
            </a:xfrm>
          </p:grpSpPr>
          <p:sp>
            <p:nvSpPr>
              <p:cNvPr id="1148" name=""/>
              <p:cNvSpPr/>
              <p:nvPr/>
            </p:nvSpPr>
            <p:spPr>
              <a:xfrm>
                <a:off x="2843280" y="3537000"/>
                <a:ext cx="52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852640" y="4013280"/>
                <a:ext cx="52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375000" y="3875040"/>
                <a:ext cx="45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363840" y="3668760"/>
                <a:ext cx="44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3070440" y="346392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3070440" y="394956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367080" y="3537000"/>
                <a:ext cx="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375000" y="38750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6" name=""/>
              <p:cNvGrpSpPr/>
              <p:nvPr/>
            </p:nvGrpSpPr>
            <p:grpSpPr>
              <a:xfrm>
                <a:off x="1976400" y="3665520"/>
                <a:ext cx="998280" cy="219240"/>
                <a:chOff x="1976400" y="3665520"/>
                <a:chExt cx="998280" cy="21924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1976400" y="3665520"/>
                  <a:ext cx="13428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048760" y="3665520"/>
                  <a:ext cx="77832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9" name=""/>
                <p:cNvGrpSpPr/>
                <p:nvPr/>
              </p:nvGrpSpPr>
              <p:grpSpPr>
                <a:xfrm>
                  <a:off x="2206080" y="3665520"/>
                  <a:ext cx="116280" cy="219240"/>
                  <a:chOff x="2206080" y="3665520"/>
                  <a:chExt cx="116280" cy="21924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2206080" y="3665520"/>
                    <a:ext cx="115200" cy="219240"/>
                  </a:xfrm>
                  <a:prstGeom prst="ellipse">
                    <a:avLst/>
                  </a:pr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0400" y="3674520"/>
                    <a:ext cx="111960" cy="20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1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263680" y="3675600"/>
                  <a:ext cx="563760" cy="20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3" name=""/>
                <p:cNvSpPr/>
                <p:nvPr/>
              </p:nvSpPr>
              <p:spPr>
                <a:xfrm>
                  <a:off x="2256120" y="3876480"/>
                  <a:ext cx="54576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263680" y="3665520"/>
                  <a:ext cx="531000" cy="9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256120" y="3665520"/>
                  <a:ext cx="53280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rot="10800000">
                  <a:off x="2223360" y="3703320"/>
                  <a:ext cx="444600" cy="53280"/>
                </a:xfrm>
                <a:custGeom>
                  <a:avLst/>
                  <a:gdLst/>
                  <a:ahLst/>
                  <a:rect l="l" t="t" r="r" b="b"/>
                  <a:pathLst>
                    <a:path w="580" h="128">
                      <a:moveTo>
                        <a:pt x="80" y="0"/>
                      </a:moveTo>
                      <a:lnTo>
                        <a:pt x="80" y="31"/>
                      </a:lnTo>
                      <a:lnTo>
                        <a:pt x="579" y="31"/>
                      </a:lnTo>
                      <a:lnTo>
                        <a:pt x="579" y="96"/>
                      </a:lnTo>
                      <a:lnTo>
                        <a:pt x="80" y="96"/>
                      </a:lnTo>
                      <a:lnTo>
                        <a:pt x="80" y="127"/>
                      </a:lnTo>
                      <a:lnTo>
                        <a:pt x="0" y="63"/>
                      </a:lnTo>
                      <a:lnTo>
                        <a:pt x="8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84df84"/>
                    </a:gs>
                    <a:gs pos="100000">
                      <a:srgbClr val="33cc33"/>
                    </a:gs>
                  </a:gsLst>
                  <a:lin ang="108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2284920" y="3727080"/>
                  <a:ext cx="323640" cy="1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754360" y="3665520"/>
                  <a:ext cx="9576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802240" y="3665520"/>
                  <a:ext cx="17244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214000" y="3676680"/>
                  <a:ext cx="9468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45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455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0800000">
                  <a:off x="2282400" y="3761640"/>
                  <a:ext cx="444600" cy="104040"/>
                </a:xfrm>
                <a:custGeom>
                  <a:avLst/>
                  <a:gdLst/>
                  <a:ahLst/>
                  <a:rect l="l" t="t" r="r" b="b"/>
                  <a:pathLst>
                    <a:path w="581" h="251">
                      <a:moveTo>
                        <a:pt x="0" y="30"/>
                      </a:moveTo>
                      <a:lnTo>
                        <a:pt x="502" y="30"/>
                      </a:lnTo>
                      <a:lnTo>
                        <a:pt x="502" y="0"/>
                      </a:lnTo>
                      <a:lnTo>
                        <a:pt x="580" y="119"/>
                      </a:lnTo>
                      <a:lnTo>
                        <a:pt x="502" y="250"/>
                      </a:lnTo>
                      <a:lnTo>
                        <a:pt x="501" y="216"/>
                      </a:lnTo>
                      <a:lnTo>
                        <a:pt x="21" y="214"/>
                      </a:lnTo>
                      <a:lnTo>
                        <a:pt x="17" y="189"/>
                      </a:lnTo>
                      <a:lnTo>
                        <a:pt x="12" y="170"/>
                      </a:lnTo>
                      <a:lnTo>
                        <a:pt x="8" y="150"/>
                      </a:lnTo>
                      <a:lnTo>
                        <a:pt x="2" y="107"/>
                      </a:lnTo>
                      <a:lnTo>
                        <a:pt x="1" y="78"/>
                      </a:lnTo>
                      <a:lnTo>
                        <a:pt x="0" y="55"/>
                      </a:lnTo>
                    </a:path>
                  </a:pathLst>
                </a:custGeom>
                <a:gradFill rotWithShape="0">
                  <a:gsLst>
                    <a:gs pos="0">
                      <a:srgbClr val="a2c1fe"/>
                    </a:gs>
                    <a:gs pos="100000">
                      <a:srgbClr val="cfdffd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214000" y="3670920"/>
                  <a:ext cx="90360" cy="202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25" y="21599"/>
                      </a:moveTo>
                      <a:arcTo wR="10800" hR="10800" stAng="5455668" swAng="53443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25" y="21599"/>
                      </a:moveTo>
                      <a:arcTo wR="10800" hR="10800" stAng="5455668" swAng="53443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"/>
            <p:cNvGrpSpPr/>
            <p:nvPr/>
          </p:nvGrpSpPr>
          <p:grpSpPr>
            <a:xfrm>
              <a:off x="209520" y="3681360"/>
              <a:ext cx="1182240" cy="1191960"/>
              <a:chOff x="209520" y="3681360"/>
              <a:chExt cx="1182240" cy="1191960"/>
            </a:xfrm>
          </p:grpSpPr>
          <p:sp>
            <p:nvSpPr>
              <p:cNvPr id="1174" name=""/>
              <p:cNvSpPr/>
              <p:nvPr/>
            </p:nvSpPr>
            <p:spPr>
              <a:xfrm>
                <a:off x="1025640" y="377676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52360" y="3681360"/>
                <a:ext cx="219240" cy="200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76" name=""/>
              <p:cNvGrpSpPr/>
              <p:nvPr/>
            </p:nvGrpSpPr>
            <p:grpSpPr>
              <a:xfrm>
                <a:off x="922320" y="3708360"/>
                <a:ext cx="469440" cy="115920"/>
                <a:chOff x="922320" y="3708360"/>
                <a:chExt cx="469440" cy="11592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945720" y="3726000"/>
                  <a:ext cx="44388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1">
                      <a:moveTo>
                        <a:pt x="0" y="111"/>
                      </a:moveTo>
                      <a:lnTo>
                        <a:pt x="194" y="0"/>
                      </a:lnTo>
                      <a:lnTo>
                        <a:pt x="963" y="0"/>
                      </a:lnTo>
                      <a:lnTo>
                        <a:pt x="1153" y="111"/>
                      </a:lnTo>
                      <a:lnTo>
                        <a:pt x="3" y="111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943560" y="37227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0" y="0"/>
                      </a:moveTo>
                      <a:lnTo>
                        <a:pt x="194" y="2"/>
                      </a:lnTo>
                      <a:lnTo>
                        <a:pt x="0" y="114"/>
                      </a:lnTo>
                      <a:lnTo>
                        <a:pt x="11" y="133"/>
                      </a:lnTo>
                      <a:lnTo>
                        <a:pt x="206" y="21"/>
                      </a:lnTo>
                      <a:lnTo>
                        <a:pt x="200" y="23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1020600" y="3722760"/>
                  <a:ext cx="298080" cy="4680"/>
                </a:xfrm>
                <a:custGeom>
                  <a:avLst/>
                  <a:gdLst/>
                  <a:ahLst/>
                  <a:rect l="l" t="t" r="r" b="b"/>
                  <a:pathLst>
                    <a:path w="775" h="23">
                      <a:moveTo>
                        <a:pt x="775" y="2"/>
                      </a:moveTo>
                      <a:lnTo>
                        <a:pt x="76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769" y="23"/>
                      </a:lnTo>
                      <a:lnTo>
                        <a:pt x="763" y="21"/>
                      </a:lnTo>
                      <a:lnTo>
                        <a:pt x="775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1314720" y="3722760"/>
                  <a:ext cx="77040" cy="33120"/>
                </a:xfrm>
                <a:custGeom>
                  <a:avLst/>
                  <a:gdLst/>
                  <a:ahLst/>
                  <a:rect l="l" t="t" r="r" b="b"/>
                  <a:pathLst>
                    <a:path w="202" h="133">
                      <a:moveTo>
                        <a:pt x="196" y="133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90" y="131"/>
                      </a:lnTo>
                      <a:lnTo>
                        <a:pt x="196" y="110"/>
                      </a:lnTo>
                      <a:lnTo>
                        <a:pt x="196" y="13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948240" y="3749760"/>
                  <a:ext cx="441360" cy="612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943560" y="3749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0" y="2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1" y="2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noFill/>
                <a:ln w="0">
                  <a:solidFill>
                    <a:srgbClr val="e5e5e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997200" y="3763800"/>
                  <a:ext cx="342720" cy="4932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997200" y="3809880"/>
                  <a:ext cx="34524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880" y="12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3" y="12"/>
                      </a:lnTo>
                      <a:lnTo>
                        <a:pt x="892" y="23"/>
                      </a:lnTo>
                      <a:lnTo>
                        <a:pt x="903" y="23"/>
                      </a:lnTo>
                      <a:lnTo>
                        <a:pt x="903" y="12"/>
                      </a:lnTo>
                      <a:lnTo>
                        <a:pt x="880" y="1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335240" y="3760920"/>
                  <a:ext cx="720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2" y="23"/>
                      </a:moveTo>
                      <a:lnTo>
                        <a:pt x="0" y="11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1"/>
                      </a:lnTo>
                      <a:lnTo>
                        <a:pt x="12" y="0"/>
                      </a:lnTo>
                      <a:lnTo>
                        <a:pt x="23" y="11"/>
                      </a:lnTo>
                      <a:lnTo>
                        <a:pt x="23" y="0"/>
                      </a:lnTo>
                      <a:lnTo>
                        <a:pt x="12" y="0"/>
                      </a:lnTo>
                      <a:lnTo>
                        <a:pt x="12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992880" y="3760920"/>
                  <a:ext cx="347040" cy="612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1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3" y="11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992880" y="3763800"/>
                  <a:ext cx="9000" cy="5256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1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1"/>
                      </a:lnTo>
                      <a:lnTo>
                        <a:pt x="11" y="212"/>
                      </a:lnTo>
                      <a:lnTo>
                        <a:pt x="0" y="201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924840" y="3711600"/>
                  <a:ext cx="44352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2">
                      <a:moveTo>
                        <a:pt x="0" y="112"/>
                      </a:moveTo>
                      <a:lnTo>
                        <a:pt x="195" y="0"/>
                      </a:lnTo>
                      <a:lnTo>
                        <a:pt x="963" y="0"/>
                      </a:lnTo>
                      <a:lnTo>
                        <a:pt x="1153" y="112"/>
                      </a:lnTo>
                      <a:lnTo>
                        <a:pt x="3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922320" y="37083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1" y="0"/>
                      </a:moveTo>
                      <a:lnTo>
                        <a:pt x="195" y="3"/>
                      </a:lnTo>
                      <a:lnTo>
                        <a:pt x="0" y="115"/>
                      </a:lnTo>
                      <a:lnTo>
                        <a:pt x="12" y="133"/>
                      </a:lnTo>
                      <a:lnTo>
                        <a:pt x="206" y="21"/>
                      </a:lnTo>
                      <a:lnTo>
                        <a:pt x="201" y="24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999720" y="3708360"/>
                  <a:ext cx="295200" cy="4680"/>
                </a:xfrm>
                <a:custGeom>
                  <a:avLst/>
                  <a:gdLst/>
                  <a:ahLst/>
                  <a:rect l="l" t="t" r="r" b="b"/>
                  <a:pathLst>
                    <a:path w="774" h="24">
                      <a:moveTo>
                        <a:pt x="774" y="3"/>
                      </a:moveTo>
                      <a:lnTo>
                        <a:pt x="768" y="0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768" y="24"/>
                      </a:lnTo>
                      <a:lnTo>
                        <a:pt x="762" y="21"/>
                      </a:lnTo>
                      <a:lnTo>
                        <a:pt x="774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290960" y="3708360"/>
                  <a:ext cx="79560" cy="33480"/>
                </a:xfrm>
                <a:custGeom>
                  <a:avLst/>
                  <a:gdLst/>
                  <a:ahLst/>
                  <a:rect l="l" t="t" r="r" b="b"/>
                  <a:pathLst>
                    <a:path w="202" h="132">
                      <a:moveTo>
                        <a:pt x="196" y="132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8"/>
                      </a:lnTo>
                      <a:lnTo>
                        <a:pt x="191" y="130"/>
                      </a:lnTo>
                      <a:lnTo>
                        <a:pt x="196" y="109"/>
                      </a:lnTo>
                      <a:lnTo>
                        <a:pt x="196" y="13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924840" y="3735360"/>
                  <a:ext cx="443520" cy="648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922320" y="37353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0" y="3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2" y="2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976320" y="3749760"/>
                  <a:ext cx="340200" cy="4896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976320" y="3795840"/>
                  <a:ext cx="344880" cy="6120"/>
                </a:xfrm>
                <a:custGeom>
                  <a:avLst/>
                  <a:gdLst/>
                  <a:ahLst/>
                  <a:rect l="l" t="t" r="r" b="b"/>
                  <a:pathLst>
                    <a:path w="904" h="23">
                      <a:moveTo>
                        <a:pt x="881" y="11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4" y="11"/>
                      </a:lnTo>
                      <a:lnTo>
                        <a:pt x="892" y="23"/>
                      </a:lnTo>
                      <a:lnTo>
                        <a:pt x="904" y="23"/>
                      </a:lnTo>
                      <a:lnTo>
                        <a:pt x="904" y="11"/>
                      </a:lnTo>
                      <a:lnTo>
                        <a:pt x="881" y="11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314720" y="374652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23"/>
                      </a:moveTo>
                      <a:lnTo>
                        <a:pt x="0" y="12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2"/>
                      </a:lnTo>
                      <a:lnTo>
                        <a:pt x="11" y="0"/>
                      </a:lnTo>
                      <a:lnTo>
                        <a:pt x="23" y="12"/>
                      </a:lnTo>
                      <a:lnTo>
                        <a:pt x="23" y="0"/>
                      </a:lnTo>
                      <a:lnTo>
                        <a:pt x="11" y="0"/>
                      </a:lnTo>
                      <a:lnTo>
                        <a:pt x="11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971640" y="3746520"/>
                  <a:ext cx="34488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2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3" y="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971640" y="374976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0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0"/>
                      </a:lnTo>
                      <a:lnTo>
                        <a:pt x="11" y="212"/>
                      </a:lnTo>
                      <a:lnTo>
                        <a:pt x="0" y="200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209520" y="3909960"/>
                <a:ext cx="488880" cy="963360"/>
                <a:chOff x="209520" y="3909960"/>
                <a:chExt cx="488880" cy="96336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247680" y="45586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47680" y="47494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47680" y="429156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0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09520" y="444420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9520" y="421524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09520" y="467316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 flipV="1">
                  <a:off x="591120" y="3909960"/>
                  <a:ext cx="0" cy="83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514800" y="4024440"/>
                  <a:ext cx="183600" cy="158400"/>
                  <a:chOff x="514800" y="4024440"/>
                  <a:chExt cx="183600" cy="1584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545040" y="4070160"/>
                    <a:ext cx="142560" cy="4392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45040" y="4112640"/>
                    <a:ext cx="1440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3" h="23">
                        <a:moveTo>
                          <a:pt x="880" y="12"/>
                        </a:moveTo>
                        <a:lnTo>
                          <a:pt x="892" y="0"/>
                        </a:lnTo>
                        <a:lnTo>
                          <a:pt x="0" y="0"/>
                        </a:lnTo>
                        <a:lnTo>
                          <a:pt x="0" y="23"/>
                        </a:lnTo>
                        <a:lnTo>
                          <a:pt x="892" y="23"/>
                        </a:lnTo>
                        <a:lnTo>
                          <a:pt x="903" y="12"/>
                        </a:lnTo>
                        <a:lnTo>
                          <a:pt x="892" y="23"/>
                        </a:lnTo>
                        <a:lnTo>
                          <a:pt x="903" y="23"/>
                        </a:lnTo>
                        <a:lnTo>
                          <a:pt x="903" y="12"/>
                        </a:lnTo>
                        <a:lnTo>
                          <a:pt x="880" y="12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85440" y="406728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2" y="23"/>
                        </a:moveTo>
                        <a:lnTo>
                          <a:pt x="0" y="11"/>
                        </a:lnTo>
                        <a:lnTo>
                          <a:pt x="0" y="212"/>
                        </a:lnTo>
                        <a:lnTo>
                          <a:pt x="23" y="212"/>
                        </a:lnTo>
                        <a:lnTo>
                          <a:pt x="23" y="11"/>
                        </a:lnTo>
                        <a:lnTo>
                          <a:pt x="12" y="0"/>
                        </a:lnTo>
                        <a:lnTo>
                          <a:pt x="23" y="11"/>
                        </a:lnTo>
                        <a:lnTo>
                          <a:pt x="23" y="0"/>
                        </a:lnTo>
                        <a:lnTo>
                          <a:pt x="12" y="0"/>
                        </a:lnTo>
                        <a:lnTo>
                          <a:pt x="12" y="23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543960" y="407016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1" y="189"/>
                        </a:moveTo>
                        <a:lnTo>
                          <a:pt x="23" y="201"/>
                        </a:lnTo>
                        <a:lnTo>
                          <a:pt x="23" y="0"/>
                        </a:lnTo>
                        <a:lnTo>
                          <a:pt x="0" y="0"/>
                        </a:lnTo>
                        <a:lnTo>
                          <a:pt x="0" y="201"/>
                        </a:lnTo>
                        <a:lnTo>
                          <a:pt x="11" y="212"/>
                        </a:lnTo>
                        <a:lnTo>
                          <a:pt x="0" y="201"/>
                        </a:lnTo>
                        <a:lnTo>
                          <a:pt x="0" y="212"/>
                        </a:lnTo>
                        <a:lnTo>
                          <a:pt x="11" y="212"/>
                        </a:lnTo>
                        <a:lnTo>
                          <a:pt x="11" y="189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514800" y="4024440"/>
                    <a:ext cx="1836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3" h="112">
                        <a:moveTo>
                          <a:pt x="0" y="112"/>
                        </a:moveTo>
                        <a:lnTo>
                          <a:pt x="195" y="0"/>
                        </a:lnTo>
                        <a:lnTo>
                          <a:pt x="963" y="0"/>
                        </a:lnTo>
                        <a:lnTo>
                          <a:pt x="1153" y="112"/>
                        </a:lnTo>
                        <a:lnTo>
                          <a:pt x="3" y="112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514800" y="4052880"/>
                    <a:ext cx="182880" cy="12996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ffcc66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525960" y="4115160"/>
                    <a:ext cx="52560" cy="475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9" name=""/>
              <p:cNvSpPr/>
              <p:nvPr/>
            </p:nvSpPr>
            <p:spPr>
              <a:xfrm>
                <a:off x="544680" y="4192560"/>
                <a:ext cx="570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900" spc="-1" strike="noStrike">
                    <a:solidFill>
                      <a:srgbClr val="000000"/>
                    </a:solidFill>
                    <a:latin typeface="Rockwell MT"/>
                  </a:rPr>
                  <a:t>Rout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 flipH="1">
              <a:off x="399960" y="3780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590400" y="3779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6440" y="3805200"/>
              <a:ext cx="61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Rockwell MT"/>
                </a:rPr>
                <a:t>Mod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68320" y="4716360"/>
              <a:ext cx="666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.323 S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4" name="" descr=""/>
            <p:cNvPicPr/>
            <p:nvPr/>
          </p:nvPicPr>
          <p:blipFill>
            <a:blip r:embed="rId12"/>
            <a:stretch/>
          </p:blipFill>
          <p:spPr>
            <a:xfrm flipH="1">
              <a:off x="728280" y="4394160"/>
              <a:ext cx="85716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>
              <a:off x="1189080" y="40417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47920" y="396252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DSL / Kabel 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8075880" y="4343400"/>
            <a:ext cx="642600" cy="1379880"/>
            <a:chOff x="8075880" y="4343400"/>
            <a:chExt cx="642600" cy="1379880"/>
          </a:xfrm>
        </p:grpSpPr>
        <p:pic>
          <p:nvPicPr>
            <p:cNvPr id="1228" name="" descr=""/>
            <p:cNvPicPr/>
            <p:nvPr/>
          </p:nvPicPr>
          <p:blipFill>
            <a:blip r:embed="rId13"/>
            <a:stretch/>
          </p:blipFill>
          <p:spPr>
            <a:xfrm>
              <a:off x="8153280" y="4724280"/>
              <a:ext cx="3142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9" name=""/>
            <p:cNvSpPr/>
            <p:nvPr/>
          </p:nvSpPr>
          <p:spPr>
            <a:xfrm>
              <a:off x="8075880" y="4343400"/>
              <a:ext cx="642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-Mai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8317080" y="5125680"/>
              <a:ext cx="4320" cy="597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1828800" y="2743200"/>
            <a:ext cx="5181480" cy="2133720"/>
            <a:chOff x="1828800" y="2743200"/>
            <a:chExt cx="5181480" cy="2133720"/>
          </a:xfrm>
        </p:grpSpPr>
        <p:sp>
          <p:nvSpPr>
            <p:cNvPr id="1232" name=""/>
            <p:cNvSpPr/>
            <p:nvPr/>
          </p:nvSpPr>
          <p:spPr>
            <a:xfrm>
              <a:off x="18288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2004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010280" y="2743200"/>
              <a:ext cx="0" cy="2133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96252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72D7-3B04-4826-87F4-506C0C62700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1757EC-D979-447A-B3EE-993FDF109D41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Entgegennahme und Umsetzung der Anord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Jederzeitige Erreichbarkeit für Benachrichtigung, das Anordnung vorli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Innerhalb der Geschäftszeiten unverzügliche Entgegennahme der Anordnu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außerhalb der Geschäftszeiten Entgegennahme spätestens nach sechs St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Unverzügliche technische Umsetzung einer Anordn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8DBC-D68E-48F1-B2FA-1C5E5B44B54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B45BE5-A07D-4DDB-94A7-2AEDBD8C8064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Abweichungen für TK-Anlagen bis 10.000 Teilneh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msetzung bis 24 h nach der Benachricht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der Kopie mit Zeitversatz (Pufferung) o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 der Kopie am Ort der TK-An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5F77-6485-400C-AE9F-EC37AFAE0B7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36EE5D-BF1D-48EA-BC51-7B3898CCE72A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chutzanforder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Übermittlung ist zu schützen ge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an nichtberechtigte Anschlü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Belegung der Anschlüsse der Berechtigten 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Kenntnisnahme durch Dri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1" name=""/>
          <p:cNvSpPr/>
          <p:nvPr/>
        </p:nvSpPr>
        <p:spPr>
          <a:xfrm>
            <a:off x="609480" y="1600200"/>
            <a:ext cx="788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dieneinrichtungen sind gegen unbefugte Nutzung zu schüt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D8CE-145B-463D-B9F2-AF1088C0D57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50827-A5B8-4460-A766-82FD974AE0BD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otokoll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Jede Nutzung der Überwachungsfunktione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as Personal, dass Überwachungsmaßnahmen einrichtet darf keinen Zugriff auf die Protokolle, insbesondere auf die entsprechenden Löschfunktionen, ha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Vergabe von Berechtigungen und die Löschfunktio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25D8-D92E-4F57-B657-FA2DFF5E301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9E7E1A-27D4-47B7-AAF5-7861D31082B1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Vollständige Prüfung durch Personal des Betreibers mindestens vierteljährl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Die RegTP erhält einen Bericht über die Prüf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ichprobenweise oder anlassbezogene Prüfung durch die Reg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Möglichkeit der Prüfung durch den B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FD79-BFA5-40CA-BDD1-7A4F6951B3C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227B3D-5780-457F-9AB0-C1EBFCBD28FA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ollenverteilung beim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6" name=""/>
          <p:cNvGrpSpPr/>
          <p:nvPr/>
        </p:nvGrpSpPr>
        <p:grpSpPr>
          <a:xfrm>
            <a:off x="1903320" y="1371600"/>
            <a:ext cx="7011720" cy="3139920"/>
            <a:chOff x="1903320" y="1371600"/>
            <a:chExt cx="7011720" cy="3139920"/>
          </a:xfrm>
        </p:grpSpPr>
        <p:grpSp>
          <p:nvGrpSpPr>
            <p:cNvPr id="1267" name=""/>
            <p:cNvGrpSpPr/>
            <p:nvPr/>
          </p:nvGrpSpPr>
          <p:grpSpPr>
            <a:xfrm>
              <a:off x="6148440" y="1371600"/>
              <a:ext cx="2482200" cy="2089080"/>
              <a:chOff x="6148440" y="1371600"/>
              <a:chExt cx="2482200" cy="2089080"/>
            </a:xfrm>
          </p:grpSpPr>
          <p:sp>
            <p:nvSpPr>
              <p:cNvPr id="1268" name=""/>
              <p:cNvSpPr/>
              <p:nvPr/>
            </p:nvSpPr>
            <p:spPr>
              <a:xfrm>
                <a:off x="6228720" y="1371600"/>
                <a:ext cx="11556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Ope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48440" y="1787400"/>
                <a:ext cx="1334520" cy="12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"/>
              <p:cNvSpPr/>
              <p:nvPr/>
            </p:nvSpPr>
            <p:spPr>
              <a:xfrm>
                <a:off x="6246360" y="2819520"/>
                <a:ext cx="2384280" cy="641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inricht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ufheb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1" name=""/>
            <p:cNvSpPr/>
            <p:nvPr/>
          </p:nvSpPr>
          <p:spPr>
            <a:xfrm>
              <a:off x="3504960" y="1905120"/>
              <a:ext cx="2742840" cy="6858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1903320" y="1371600"/>
              <a:ext cx="1686240" cy="865080"/>
              <a:chOff x="1903320" y="1371600"/>
              <a:chExt cx="1686240" cy="865080"/>
            </a:xfrm>
          </p:grpSpPr>
          <p:sp>
            <p:nvSpPr>
              <p:cNvPr id="1273" name=""/>
              <p:cNvSpPr/>
              <p:nvPr/>
            </p:nvSpPr>
            <p:spPr>
              <a:xfrm>
                <a:off x="2859120" y="157644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4" name=""/>
              <p:cNvGrpSpPr/>
              <p:nvPr/>
            </p:nvGrpSpPr>
            <p:grpSpPr>
              <a:xfrm>
                <a:off x="1903320" y="1371600"/>
                <a:ext cx="1686240" cy="865080"/>
                <a:chOff x="1903320" y="1371600"/>
                <a:chExt cx="1686240" cy="865080"/>
              </a:xfrm>
            </p:grpSpPr>
            <p:pic>
              <p:nvPicPr>
                <p:cNvPr id="127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93920" y="1371600"/>
                  <a:ext cx="1208160" cy="86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1903320" y="1560240"/>
                  <a:ext cx="16862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nordnung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7" name=""/>
            <p:cNvSpPr/>
            <p:nvPr/>
          </p:nvSpPr>
          <p:spPr>
            <a:xfrm>
              <a:off x="5410080" y="3657600"/>
              <a:ext cx="3504960" cy="83808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095880" y="3733920"/>
              <a:ext cx="224604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-Datenbank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ilnehmer-Prof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48160" y="2743200"/>
              <a:ext cx="0" cy="9907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151920" y="1980720"/>
            <a:ext cx="5791680" cy="4029480"/>
            <a:chOff x="151920" y="1980720"/>
            <a:chExt cx="5791680" cy="4029480"/>
          </a:xfrm>
        </p:grpSpPr>
        <p:sp>
          <p:nvSpPr>
            <p:cNvPr id="1281" name=""/>
            <p:cNvSpPr/>
            <p:nvPr/>
          </p:nvSpPr>
          <p:spPr>
            <a:xfrm flipH="1">
              <a:off x="1752480" y="3048120"/>
              <a:ext cx="1487520" cy="68580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95480" y="2743200"/>
              <a:ext cx="1920960" cy="781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okolldate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cht löschbar durch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4648320" y="2819520"/>
              <a:ext cx="1295280" cy="7596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57520" y="3962520"/>
              <a:ext cx="3200400" cy="1738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üfung der Protokol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Bericht an die Reg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öschen der Protokol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Vergabe von Berechtigungen für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5" name=""/>
            <p:cNvGrpSpPr/>
            <p:nvPr/>
          </p:nvGrpSpPr>
          <p:grpSpPr>
            <a:xfrm>
              <a:off x="151920" y="3581280"/>
              <a:ext cx="1676880" cy="1874880"/>
              <a:chOff x="151920" y="3581280"/>
              <a:chExt cx="1676880" cy="1874880"/>
            </a:xfrm>
          </p:grpSpPr>
          <p:pic>
            <p:nvPicPr>
              <p:cNvPr id="12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0440" y="3809880"/>
                <a:ext cx="1458360" cy="16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>
                <a:off x="151920" y="3581280"/>
                <a:ext cx="1600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Administ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super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"/>
            <p:cNvSpPr/>
            <p:nvPr/>
          </p:nvSpPr>
          <p:spPr>
            <a:xfrm flipV="1">
              <a:off x="1447920" y="1980720"/>
              <a:ext cx="838080" cy="167652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57200" y="5410080"/>
              <a:ext cx="1922400" cy="6001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ogdatei Admin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icht löschb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31F0-F56B-4234-8F5F-FF6607277F6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07739-91CE-4FF1-AF7E-948B5AAD9CD9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71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Aufgaben der RegTP nach § 88 TKG und TKÜ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enehmigung und Abnahme der Überwachungstechnik der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Rahmenkonzepte der Hers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rarbeitung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prüfung der Einsatz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tatistik der Anordnungen im StPO-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stätigen von Test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0AA0-D8D1-4568-952F-A265D79614E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2757F-F893-4BC5-8D05-21D592CAD368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blick über die Vorschrif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895480" y="2209680"/>
            <a:ext cx="205740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TR TK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09680"/>
            <a:ext cx="213336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ETSI, 3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95480" y="2819520"/>
            <a:ext cx="5257800" cy="2349360"/>
            <a:chOff x="2895480" y="2819520"/>
            <a:chExt cx="5257800" cy="2349360"/>
          </a:xfrm>
        </p:grpSpPr>
        <p:sp>
          <p:nvSpPr>
            <p:cNvPr id="60" name=""/>
            <p:cNvSpPr/>
            <p:nvPr/>
          </p:nvSpPr>
          <p:spPr>
            <a:xfrm>
              <a:off x="2895480" y="4648320"/>
              <a:ext cx="38102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Art 10 G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3429000"/>
              <a:ext cx="28958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§ 88 TK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95480" y="4038480"/>
              <a:ext cx="33530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G 10, StPO, AW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2819520"/>
              <a:ext cx="24386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TKÜ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4038480"/>
              <a:ext cx="129528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ZSE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638680" y="1447920"/>
            <a:ext cx="3048120" cy="17773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R TKÜ Ausgabe 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Entwurf der TR TKÜ Ausgabe 4.0 voraussichtliches Inkrafttreten 1. Q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828800"/>
            <a:ext cx="6705720" cy="3460680"/>
            <a:chOff x="457200" y="1828800"/>
            <a:chExt cx="6705720" cy="3460680"/>
          </a:xfrm>
        </p:grpSpPr>
        <p:sp>
          <p:nvSpPr>
            <p:cNvPr id="67" name=""/>
            <p:cNvSpPr/>
            <p:nvPr/>
          </p:nvSpPr>
          <p:spPr>
            <a:xfrm>
              <a:off x="457200" y="182880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C LI</a:t>
              </a:r>
              <a:r>
                <a:rPr b="1" lang="de-DE" sz="14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Grundsatzangelegenheiten (Handover-Interfa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Festnetz, Paketvermittelte Kommunikation, E-Mail (GPRS) 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(ES 201 67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27428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(3GPP)  SA3  LI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hird Generation Partnership Projec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GSM (TS 03.33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UMTS (TS 33.108) = GPRS + (IM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43430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IPHON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elecommunications and Internet Protocol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Harmonisation over Network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Voice over 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3657240"/>
              <a:ext cx="6705720" cy="70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AT-D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Access and Terminals - Digita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Kabelnetze (Telefonie, Internetzuga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9EDA-46FE-4E49-B5FF-64F8CF947A4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4DBC9-D390-4EA0-837B-D5C6759291D2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andardisierung Lawful Int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85800" y="1447920"/>
            <a:ext cx="7696080" cy="1189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C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Grundsatzangelegenheiten (Handover-Interf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ES 201 6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Festnetz, Paketvermittelte Kommunikation, E-Mail (GP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74320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(3GPP)  SA3  LI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hird Generation Partnership Pro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GSM (TS 03.3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UMTS (TS 33.108) = GPRS + (I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64832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IPHON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elecommunications and Internet Protocol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Harmonisation over Network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Voice over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09880"/>
            <a:ext cx="7696080" cy="70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AT-D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Access and Terminals - Digi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Kabelnetze (Telefonie, Internetzuga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FDB1-EB58-4B3B-97D2-116E5A0ACFA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F84E2-AD38-4476-9AF0-2D8FF163FC76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TSI-Prin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5715000" cy="4483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15000" y="3124080"/>
            <a:ext cx="3276720" cy="1631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 sind grundsätz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integrierte 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terne Lösungen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2133720"/>
            <a:ext cx="2286000" cy="9471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Kein HI1 in Deutsch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3048120"/>
            <a:ext cx="1905120" cy="1447560"/>
          </a:xfrm>
          <a:prstGeom prst="rect">
            <a:avLst/>
          </a:prstGeom>
          <a:noFill/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5F4C-F8CA-4709-93A8-3BDD3FCD790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0DE2DE-69FC-4B6E-AD87-9322F593D085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egelungsbereich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Telefonnetz (ISDN, PSTN und G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Speichereinrichtung: Sprache und F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GPRS,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chutzmaßnahmen IPSec</a:t>
            </a:r>
            <a:br>
              <a:rPr sz="2800"/>
            </a:b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(2. Herstellerbefragung wird gestart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peichereinrichtung: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 Unicode MS"/>
              </a:rPr>
              <a:t>Internet Zugänge: DSL, WLL, Kabel, IM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066680" y="56386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usgabe</a:t>
            </a:r>
            <a:r>
              <a:rPr b="0" lang="en-US" sz="2000" spc="-1" strike="noStrike">
                <a:solidFill>
                  <a:srgbClr val="00cc00"/>
                </a:solidFill>
                <a:latin typeface="Arial Unicode MS"/>
              </a:rPr>
              <a:t> 3.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9900"/>
                </a:solidFill>
                <a:latin typeface="Arial Unicode MS"/>
              </a:rPr>
              <a:t>Entwurf 4.0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(künftiger Entwurf 5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CCDC-EEBC-44A1-B580-1E39DB139E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0FE948-E445-4C91-BAFF-88646FDC9947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leitungsvermittelten 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2971800"/>
            <a:ext cx="3721320" cy="3035160"/>
            <a:chOff x="380880" y="2971800"/>
            <a:chExt cx="3721320" cy="3035160"/>
          </a:xfrm>
        </p:grpSpPr>
        <p:sp>
          <p:nvSpPr>
            <p:cNvPr id="98" name=""/>
            <p:cNvSpPr/>
            <p:nvPr/>
          </p:nvSpPr>
          <p:spPr>
            <a:xfrm>
              <a:off x="380880" y="4191120"/>
              <a:ext cx="1752840" cy="1066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tzinformationen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ISDN-Verbindung 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905120" y="4038480"/>
              <a:ext cx="2197080" cy="673200"/>
              <a:chOff x="1905120" y="4038480"/>
              <a:chExt cx="2197080" cy="6732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905120" y="4038480"/>
                <a:ext cx="2197080" cy="673200"/>
                <a:chOff x="1905120" y="4038480"/>
                <a:chExt cx="2197080" cy="67320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3197160" y="4102200"/>
                  <a:ext cx="905040" cy="577800"/>
                  <a:chOff x="3197160" y="4102200"/>
                  <a:chExt cx="905040" cy="577800"/>
                </a:xfrm>
              </p:grpSpPr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3548160" y="4102200"/>
                    <a:ext cx="554040" cy="461880"/>
                    <a:chOff x="3548160" y="4102200"/>
                    <a:chExt cx="554040" cy="461880"/>
                  </a:xfrm>
                </p:grpSpPr>
                <p:grpSp>
                  <p:nvGrpSpPr>
                    <p:cNvPr id="103" name=""/>
                    <p:cNvGrpSpPr/>
                    <p:nvPr/>
                  </p:nvGrpSpPr>
                  <p:grpSpPr>
                    <a:xfrm>
                      <a:off x="3692520" y="4162320"/>
                      <a:ext cx="409680" cy="339840"/>
                      <a:chOff x="3692520" y="4162320"/>
                      <a:chExt cx="409680" cy="339840"/>
                    </a:xfrm>
                  </p:grpSpPr>
                  <p:grpSp>
                    <p:nvGrpSpPr>
                      <p:cNvPr id="104" name=""/>
                      <p:cNvGrpSpPr/>
                      <p:nvPr/>
                    </p:nvGrpSpPr>
                    <p:grpSpPr>
                      <a:xfrm>
                        <a:off x="3692520" y="4162320"/>
                        <a:ext cx="409680" cy="339840"/>
                        <a:chOff x="3692520" y="4162320"/>
                        <a:chExt cx="409680" cy="339840"/>
                      </a:xfrm>
                    </p:grpSpPr>
                    <p:grpSp>
                      <p:nvGrpSpPr>
                        <p:cNvPr id="105" name=""/>
                        <p:cNvGrpSpPr/>
                        <p:nvPr/>
                      </p:nvGrpSpPr>
                      <p:grpSpPr>
                        <a:xfrm>
                          <a:off x="3800520" y="4184640"/>
                          <a:ext cx="301680" cy="276120"/>
                          <a:chOff x="3800520" y="4184640"/>
                          <a:chExt cx="301680" cy="276120"/>
                        </a:xfrm>
                      </p:grpSpPr>
                      <p:grpSp>
                        <p:nvGrpSpPr>
                          <p:cNvPr id="106" name=""/>
                          <p:cNvGrpSpPr/>
                          <p:nvPr/>
                        </p:nvGrpSpPr>
                        <p:grpSpPr>
                          <a:xfrm>
                            <a:off x="3833640" y="4184640"/>
                            <a:ext cx="268560" cy="276120"/>
                            <a:chOff x="3833640" y="4184640"/>
                            <a:chExt cx="268560" cy="276120"/>
                          </a:xfrm>
                        </p:grpSpPr>
                        <p:sp>
                          <p:nvSpPr>
                            <p:cNvPr id="107" name=""/>
                            <p:cNvSpPr/>
                            <p:nvPr/>
                          </p:nvSpPr>
                          <p:spPr>
                            <a:xfrm>
                              <a:off x="3979800" y="4352760"/>
                              <a:ext cx="1224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" name=""/>
                            <p:cNvSpPr/>
                            <p:nvPr/>
                          </p:nvSpPr>
                          <p:spPr>
                            <a:xfrm>
                              <a:off x="3870360" y="4371840"/>
                              <a:ext cx="1587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9" name=""/>
                            <p:cNvSpPr/>
                            <p:nvPr/>
                          </p:nvSpPr>
                          <p:spPr>
                            <a:xfrm>
                              <a:off x="3941640" y="4246560"/>
                              <a:ext cx="1224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0" name=""/>
                            <p:cNvSpPr/>
                            <p:nvPr/>
                          </p:nvSpPr>
                          <p:spPr>
                            <a:xfrm>
                              <a:off x="3833640" y="4184640"/>
                              <a:ext cx="15732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1" name=""/>
                            <p:cNvSpPr/>
                            <p:nvPr/>
                          </p:nvSpPr>
                          <p:spPr>
                            <a:xfrm>
                              <a:off x="3944880" y="4245120"/>
                              <a:ext cx="10800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12" name=""/>
                          <p:cNvSpPr/>
                          <p:nvPr/>
                        </p:nvSpPr>
                        <p:spPr>
                          <a:xfrm>
                            <a:off x="3800520" y="4268880"/>
                            <a:ext cx="23004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" name=""/>
                          <p:cNvSpPr/>
                          <p:nvPr/>
                        </p:nvSpPr>
                        <p:spPr>
                          <a:xfrm>
                            <a:off x="3800520" y="4352760"/>
                            <a:ext cx="155520" cy="87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4" name=""/>
                          <p:cNvSpPr/>
                          <p:nvPr/>
                        </p:nvSpPr>
                        <p:spPr>
                          <a:xfrm>
                            <a:off x="3851280" y="4226040"/>
                            <a:ext cx="1141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>
                          <a:off x="3800520" y="4435560"/>
                          <a:ext cx="120600" cy="666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>
                          <a:off x="3692520" y="4162320"/>
                          <a:ext cx="157320" cy="88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3840120" y="4413240"/>
                          <a:ext cx="795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3824280" y="4206960"/>
                        <a:ext cx="44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3548160" y="4102200"/>
                      <a:ext cx="372960" cy="420480"/>
                      <a:chOff x="3548160" y="4102200"/>
                      <a:chExt cx="372960" cy="42048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3583080" y="4352760"/>
                        <a:ext cx="301680" cy="1699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3616200" y="4226040"/>
                        <a:ext cx="304920" cy="171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3548160" y="4102200"/>
                        <a:ext cx="228600" cy="1299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3692520" y="4184640"/>
                        <a:ext cx="120600" cy="666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3621240" y="4167000"/>
                        <a:ext cx="20160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3718080" y="438300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3548160" y="4476600"/>
                      <a:ext cx="16020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3659040" y="4464000"/>
                      <a:ext cx="828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8" name=""/>
                  <p:cNvSpPr/>
                  <p:nvPr/>
                </p:nvSpPr>
                <p:spPr>
                  <a:xfrm>
                    <a:off x="3197160" y="4572000"/>
                    <a:ext cx="192240" cy="1080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3365640" y="4572000"/>
                    <a:ext cx="16164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465360" y="4538520"/>
                    <a:ext cx="15732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321000" y="4518000"/>
                    <a:ext cx="33804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1905120" y="4105440"/>
                  <a:ext cx="539640" cy="398160"/>
                  <a:chOff x="1905120" y="4105440"/>
                  <a:chExt cx="539640" cy="39816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1905120" y="4162320"/>
                    <a:ext cx="287280" cy="235080"/>
                    <a:chOff x="1905120" y="4162320"/>
                    <a:chExt cx="287280" cy="23508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905120" y="4246560"/>
                      <a:ext cx="117360" cy="6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928880" y="4309920"/>
                      <a:ext cx="1587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962000" y="4162320"/>
                      <a:ext cx="23040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944720" y="4253040"/>
                      <a:ext cx="8244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2000160" y="4105440"/>
                    <a:ext cx="444600" cy="398160"/>
                    <a:chOff x="2000160" y="4105440"/>
                    <a:chExt cx="444600" cy="39816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2143080" y="4122720"/>
                      <a:ext cx="301680" cy="1699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000160" y="4246560"/>
                      <a:ext cx="1605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035080" y="4309920"/>
                      <a:ext cx="23328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2109600" y="4371840"/>
                      <a:ext cx="223920" cy="1317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2124000" y="4208400"/>
                      <a:ext cx="206280" cy="1112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2306520" y="4105440"/>
                      <a:ext cx="119160" cy="64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2189160" y="4181400"/>
                      <a:ext cx="1461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2044800" y="4289400"/>
                      <a:ext cx="1666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>
                    <a:off x="2292480" y="4145040"/>
                    <a:ext cx="889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2178000" y="4038480"/>
                  <a:ext cx="1598760" cy="673200"/>
                  <a:chOff x="2178000" y="4038480"/>
                  <a:chExt cx="1598760" cy="6732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2679840" y="4060800"/>
                    <a:ext cx="37764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3006720" y="40384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294000" y="4226040"/>
                    <a:ext cx="482760" cy="2775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357280" y="4352760"/>
                    <a:ext cx="5558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152880" y="4392720"/>
                    <a:ext cx="407880" cy="2332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214720" y="4416480"/>
                    <a:ext cx="2998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178000" y="42688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322360" y="4102200"/>
                    <a:ext cx="482760" cy="274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755800" y="4435560"/>
                    <a:ext cx="482760" cy="2761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365640" y="4122720"/>
                    <a:ext cx="37620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259080" y="4038480"/>
                    <a:ext cx="339840" cy="192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305080" y="4089240"/>
                    <a:ext cx="13842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1" name=""/>
              <p:cNvSpPr/>
              <p:nvPr/>
            </p:nvSpPr>
            <p:spPr>
              <a:xfrm>
                <a:off x="2447280" y="4307040"/>
                <a:ext cx="545760" cy="27144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600200" y="5029200"/>
              <a:ext cx="2425680" cy="977760"/>
            </a:xfrm>
            <a:prstGeom prst="rect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BTr-Ger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utzinformati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C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743200" y="2971800"/>
              <a:ext cx="152280" cy="2057400"/>
              <a:chOff x="2743200" y="2971800"/>
              <a:chExt cx="152280" cy="2057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74320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9548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429000" y="3581280"/>
            <a:ext cx="4419720" cy="2432160"/>
            <a:chOff x="3429000" y="3581280"/>
            <a:chExt cx="4419720" cy="2432160"/>
          </a:xfrm>
        </p:grpSpPr>
        <p:grpSp>
          <p:nvGrpSpPr>
            <p:cNvPr id="167" name=""/>
            <p:cNvGrpSpPr/>
            <p:nvPr/>
          </p:nvGrpSpPr>
          <p:grpSpPr>
            <a:xfrm>
              <a:off x="4267080" y="3886200"/>
              <a:ext cx="3581640" cy="2127240"/>
              <a:chOff x="4267080" y="3886200"/>
              <a:chExt cx="3581640" cy="2127240"/>
            </a:xfrm>
          </p:grpSpPr>
          <p:sp>
            <p:nvSpPr>
              <p:cNvPr id="168" name=""/>
              <p:cNvSpPr/>
              <p:nvPr/>
            </p:nvSpPr>
            <p:spPr>
              <a:xfrm>
                <a:off x="4267080" y="5029200"/>
                <a:ext cx="2044800" cy="984240"/>
              </a:xfrm>
              <a:prstGeom prst="rect">
                <a:avLst/>
              </a:prstGeom>
              <a:solidFill>
                <a:srgbClr val="ff66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BTr-Gerä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Ereignisdat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(IRI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4267080" y="3886200"/>
                <a:ext cx="1587240" cy="976320"/>
                <a:chOff x="4267080" y="3886200"/>
                <a:chExt cx="1587240" cy="97632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4267080" y="3886200"/>
                  <a:ext cx="1587240" cy="976320"/>
                  <a:chOff x="4267080" y="3886200"/>
                  <a:chExt cx="1587240" cy="97632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5202000" y="3978000"/>
                    <a:ext cx="652320" cy="838440"/>
                    <a:chOff x="5202000" y="3978000"/>
                    <a:chExt cx="652320" cy="838440"/>
                  </a:xfrm>
                </p:grpSpPr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5456160" y="3978000"/>
                      <a:ext cx="398160" cy="669960"/>
                      <a:chOff x="5456160" y="3978000"/>
                      <a:chExt cx="398160" cy="669960"/>
                    </a:xfrm>
                  </p:grpSpPr>
                  <p:grpSp>
                    <p:nvGrpSpPr>
                      <p:cNvPr id="173" name=""/>
                      <p:cNvGrpSpPr/>
                      <p:nvPr/>
                    </p:nvGrpSpPr>
                    <p:grpSpPr>
                      <a:xfrm>
                        <a:off x="5560920" y="4065480"/>
                        <a:ext cx="293400" cy="491760"/>
                        <a:chOff x="5560920" y="4065480"/>
                        <a:chExt cx="293400" cy="491760"/>
                      </a:xfrm>
                    </p:grpSpPr>
                    <p:grpSp>
                      <p:nvGrpSpPr>
                        <p:cNvPr id="174" name=""/>
                        <p:cNvGrpSpPr/>
                        <p:nvPr/>
                      </p:nvGrpSpPr>
                      <p:grpSpPr>
                        <a:xfrm>
                          <a:off x="5560920" y="4065480"/>
                          <a:ext cx="293400" cy="491760"/>
                          <a:chOff x="5560920" y="4065480"/>
                          <a:chExt cx="293400" cy="491760"/>
                        </a:xfrm>
                      </p:grpSpPr>
                      <p:grpSp>
                        <p:nvGrpSpPr>
                          <p:cNvPr id="175" name=""/>
                          <p:cNvGrpSpPr/>
                          <p:nvPr/>
                        </p:nvGrpSpPr>
                        <p:grpSpPr>
                          <a:xfrm>
                            <a:off x="5640120" y="4097160"/>
                            <a:ext cx="214200" cy="399600"/>
                            <a:chOff x="5640120" y="4097160"/>
                            <a:chExt cx="214200" cy="399600"/>
                          </a:xfrm>
                        </p:grpSpPr>
                        <p:grpSp>
                          <p:nvGrpSpPr>
                            <p:cNvPr id="176" name=""/>
                            <p:cNvGrpSpPr/>
                            <p:nvPr/>
                          </p:nvGrpSpPr>
                          <p:grpSpPr>
                            <a:xfrm>
                              <a:off x="5663880" y="4097160"/>
                              <a:ext cx="190440" cy="399600"/>
                              <a:chOff x="5663880" y="4097160"/>
                              <a:chExt cx="190440" cy="399600"/>
                            </a:xfrm>
                          </p:grpSpPr>
                          <p:sp>
                            <p:nvSpPr>
                              <p:cNvPr id="177" name=""/>
                              <p:cNvSpPr/>
                              <p:nvPr/>
                            </p:nvSpPr>
                            <p:spPr>
                              <a:xfrm>
                                <a:off x="5768640" y="4340520"/>
                                <a:ext cx="85680" cy="939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19800" bIns="19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8" name=""/>
                              <p:cNvSpPr/>
                              <p:nvPr/>
                            </p:nvSpPr>
                            <p:spPr>
                              <a:xfrm>
                                <a:off x="5689440" y="4368240"/>
                                <a:ext cx="112680" cy="1285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4280" bIns="4428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9" name=""/>
                              <p:cNvSpPr/>
                              <p:nvPr/>
                            </p:nvSpPr>
                            <p:spPr>
                              <a:xfrm>
                                <a:off x="5741640" y="4186440"/>
                                <a:ext cx="85680" cy="986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23040" bIns="230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0" name=""/>
                              <p:cNvSpPr/>
                              <p:nvPr/>
                            </p:nvSpPr>
                            <p:spPr>
                              <a:xfrm>
                                <a:off x="5663880" y="4097160"/>
                                <a:ext cx="111240" cy="126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2840" bIns="428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1" name=""/>
                              <p:cNvSpPr/>
                              <p:nvPr/>
                            </p:nvSpPr>
                            <p:spPr>
                              <a:xfrm>
                                <a:off x="5741640" y="4184280"/>
                                <a:ext cx="81000" cy="23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1" h="101">
                                    <a:moveTo>
                                      <a:pt x="50" y="99"/>
                                    </a:moveTo>
                                    <a:lnTo>
                                      <a:pt x="28" y="100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31" y="7"/>
                                    </a:lnTo>
                                    <a:lnTo>
                                      <a:pt x="32" y="56"/>
                                    </a:lnTo>
                                    <a:lnTo>
                                      <a:pt x="50" y="99"/>
                                    </a:lnTo>
                                  </a:path>
                                </a:pathLst>
                              </a:custGeom>
                              <a:solidFill>
                                <a:srgbClr val="33cc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2" name=""/>
                            <p:cNvSpPr/>
                            <p:nvPr/>
                          </p:nvSpPr>
                          <p:spPr>
                            <a:xfrm>
                              <a:off x="5640120" y="4218840"/>
                              <a:ext cx="162000" cy="1857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3" name=""/>
                            <p:cNvSpPr/>
                            <p:nvPr/>
                          </p:nvSpPr>
                          <p:spPr>
                            <a:xfrm>
                              <a:off x="5640120" y="4340880"/>
                              <a:ext cx="108000" cy="1260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2480" bIns="42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4" name=""/>
                            <p:cNvSpPr/>
                            <p:nvPr/>
                          </p:nvSpPr>
                          <p:spPr>
                            <a:xfrm>
                              <a:off x="5675040" y="4156920"/>
                              <a:ext cx="82440" cy="250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2" h="109">
                                  <a:moveTo>
                                    <a:pt x="46" y="18"/>
                                  </a:moveTo>
                                  <a:lnTo>
                                    <a:pt x="41" y="41"/>
                                  </a:lnTo>
                                  <a:lnTo>
                                    <a:pt x="51" y="93"/>
                                  </a:lnTo>
                                  <a:lnTo>
                                    <a:pt x="31" y="108"/>
                                  </a:lnTo>
                                  <a:lnTo>
                                    <a:pt x="0" y="45"/>
                                  </a:lnTo>
                                  <a:lnTo>
                                    <a:pt x="24" y="0"/>
                                  </a:lnTo>
                                  <a:lnTo>
                                    <a:pt x="46" y="18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5" name=""/>
                          <p:cNvSpPr/>
                          <p:nvPr/>
                        </p:nvSpPr>
                        <p:spPr>
                          <a:xfrm>
                            <a:off x="5640120" y="4460760"/>
                            <a:ext cx="82440" cy="96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1600" bIns="21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6" name=""/>
                          <p:cNvSpPr/>
                          <p:nvPr/>
                        </p:nvSpPr>
                        <p:spPr>
                          <a:xfrm>
                            <a:off x="5560920" y="4065480"/>
                            <a:ext cx="11088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" name=""/>
                          <p:cNvSpPr/>
                          <p:nvPr/>
                        </p:nvSpPr>
                        <p:spPr>
                          <a:xfrm>
                            <a:off x="5667120" y="4428360"/>
                            <a:ext cx="5724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" h="20">
                                <a:moveTo>
                                  <a:pt x="35" y="12"/>
                                </a:moveTo>
                                <a:lnTo>
                                  <a:pt x="24" y="19"/>
                                </a:lnTo>
                                <a:lnTo>
                                  <a:pt x="0" y="9"/>
                                </a:lnTo>
                                <a:lnTo>
                                  <a:pt x="24" y="0"/>
                                </a:lnTo>
                                <a:lnTo>
                                  <a:pt x="35" y="12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5654520" y="4129560"/>
                          <a:ext cx="33120" cy="75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33">
                              <a:moveTo>
                                <a:pt x="10" y="0"/>
                              </a:moveTo>
                              <a:lnTo>
                                <a:pt x="20" y="0"/>
                              </a:lnTo>
                              <a:lnTo>
                                <a:pt x="16" y="32"/>
                              </a:lnTo>
                              <a:lnTo>
                                <a:pt x="0" y="26"/>
                              </a:lnTo>
                              <a:lnTo>
                                <a:pt x="10" y="0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9" name=""/>
                      <p:cNvGrpSpPr/>
                      <p:nvPr/>
                    </p:nvGrpSpPr>
                    <p:grpSpPr>
                      <a:xfrm>
                        <a:off x="5456160" y="3978000"/>
                        <a:ext cx="266400" cy="609840"/>
                        <a:chOff x="5456160" y="3978000"/>
                        <a:chExt cx="266400" cy="609840"/>
                      </a:xfrm>
                    </p:grpSpPr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5481360" y="4341600"/>
                          <a:ext cx="216000" cy="2462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>
                          <a:off x="5506920" y="4157280"/>
                          <a:ext cx="215640" cy="2484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>
                          <a:off x="5456160" y="3978000"/>
                          <a:ext cx="163440" cy="1890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5560920" y="4097520"/>
                          <a:ext cx="85680" cy="968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1960" bIns="21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5508360" y="4072320"/>
                          <a:ext cx="146160" cy="223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" h="97">
                              <a:moveTo>
                                <a:pt x="64" y="3"/>
                              </a:moveTo>
                              <a:lnTo>
                                <a:pt x="63" y="15"/>
                              </a:lnTo>
                              <a:lnTo>
                                <a:pt x="85" y="36"/>
                              </a:lnTo>
                              <a:lnTo>
                                <a:pt x="91" y="39"/>
                              </a:lnTo>
                              <a:lnTo>
                                <a:pt x="59" y="96"/>
                              </a:lnTo>
                              <a:lnTo>
                                <a:pt x="0" y="0"/>
                              </a:lnTo>
                              <a:lnTo>
                                <a:pt x="64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5578200" y="4385520"/>
                          <a:ext cx="96840" cy="5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26">
                              <a:moveTo>
                                <a:pt x="53" y="3"/>
                              </a:moveTo>
                              <a:lnTo>
                                <a:pt x="60" y="11"/>
                              </a:lnTo>
                              <a:lnTo>
                                <a:pt x="0" y="25"/>
                              </a:lnTo>
                              <a:lnTo>
                                <a:pt x="2" y="0"/>
                              </a:lnTo>
                              <a:lnTo>
                                <a:pt x="53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600" bIns="12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5456160" y="4521600"/>
                        <a:ext cx="112680" cy="126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840" bIns="42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"/>
                      <p:cNvSpPr/>
                      <p:nvPr/>
                    </p:nvSpPr>
                    <p:spPr>
                      <a:xfrm>
                        <a:off x="5535360" y="4502880"/>
                        <a:ext cx="60480" cy="7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32">
                            <a:moveTo>
                              <a:pt x="15" y="31"/>
                            </a:moveTo>
                            <a:lnTo>
                              <a:pt x="37" y="20"/>
                            </a:lnTo>
                            <a:lnTo>
                              <a:pt x="11" y="0"/>
                            </a:lnTo>
                            <a:lnTo>
                              <a:pt x="0" y="11"/>
                            </a:lnTo>
                            <a:lnTo>
                              <a:pt x="15" y="31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5202000" y="4659840"/>
                      <a:ext cx="136440" cy="15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325840" y="4659840"/>
                      <a:ext cx="112680" cy="12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397120" y="4611960"/>
                      <a:ext cx="111240" cy="1263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840" bIns="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290920" y="4581720"/>
                      <a:ext cx="24588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84">
                          <a:moveTo>
                            <a:pt x="143" y="24"/>
                          </a:moveTo>
                          <a:lnTo>
                            <a:pt x="128" y="29"/>
                          </a:lnTo>
                          <a:lnTo>
                            <a:pt x="87" y="63"/>
                          </a:lnTo>
                          <a:lnTo>
                            <a:pt x="77" y="77"/>
                          </a:lnTo>
                          <a:lnTo>
                            <a:pt x="32" y="77"/>
                          </a:lnTo>
                          <a:lnTo>
                            <a:pt x="23" y="83"/>
                          </a:lnTo>
                          <a:lnTo>
                            <a:pt x="0" y="58"/>
                          </a:lnTo>
                          <a:lnTo>
                            <a:pt x="104" y="0"/>
                          </a:lnTo>
                          <a:lnTo>
                            <a:pt x="154" y="13"/>
                          </a:lnTo>
                          <a:lnTo>
                            <a:pt x="143" y="24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267080" y="3982680"/>
                    <a:ext cx="387360" cy="577440"/>
                    <a:chOff x="4267080" y="3982680"/>
                    <a:chExt cx="387360" cy="577440"/>
                  </a:xfrm>
                </p:grpSpPr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4267080" y="4065480"/>
                      <a:ext cx="204480" cy="339840"/>
                      <a:chOff x="4267080" y="4065480"/>
                      <a:chExt cx="204480" cy="339840"/>
                    </a:xfrm>
                  </p:grpSpPr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4267080" y="4186800"/>
                        <a:ext cx="82440" cy="99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3400" bIns="23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4284360" y="4279320"/>
                        <a:ext cx="111240" cy="126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480" bIns="42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4308120" y="4065480"/>
                        <a:ext cx="1634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4294080" y="4196520"/>
                        <a:ext cx="6012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47">
                            <a:moveTo>
                              <a:pt x="21" y="0"/>
                            </a:moveTo>
                            <a:lnTo>
                              <a:pt x="0" y="9"/>
                            </a:lnTo>
                            <a:lnTo>
                              <a:pt x="0" y="37"/>
                            </a:lnTo>
                            <a:lnTo>
                              <a:pt x="8" y="46"/>
                            </a:lnTo>
                            <a:lnTo>
                              <a:pt x="37" y="37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4335120" y="3982680"/>
                      <a:ext cx="319320" cy="577440"/>
                      <a:chOff x="4335120" y="3982680"/>
                      <a:chExt cx="319320" cy="57744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4439880" y="4007520"/>
                        <a:ext cx="214560" cy="24624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4335120" y="4187160"/>
                        <a:ext cx="112680" cy="126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4362120" y="4279680"/>
                        <a:ext cx="1652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4414680" y="4369320"/>
                        <a:ext cx="160200" cy="1908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4425840" y="4131720"/>
                        <a:ext cx="145800" cy="161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4559040" y="3982680"/>
                        <a:ext cx="82440" cy="94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160" bIns="20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4471560" y="4093200"/>
                        <a:ext cx="106560" cy="84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37">
                            <a:moveTo>
                              <a:pt x="0" y="10"/>
                            </a:moveTo>
                            <a:lnTo>
                              <a:pt x="8" y="26"/>
                            </a:lnTo>
                            <a:lnTo>
                              <a:pt x="66" y="36"/>
                            </a:lnTo>
                            <a:lnTo>
                              <a:pt x="66" y="14"/>
                            </a:lnTo>
                            <a:lnTo>
                              <a:pt x="4" y="0"/>
                            </a:lnTo>
                            <a:lnTo>
                              <a:pt x="0" y="1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160" bIns="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4366800" y="4249440"/>
                        <a:ext cx="122400" cy="17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77">
                            <a:moveTo>
                              <a:pt x="47" y="0"/>
                            </a:moveTo>
                            <a:lnTo>
                              <a:pt x="0" y="19"/>
                            </a:lnTo>
                            <a:lnTo>
                              <a:pt x="19" y="34"/>
                            </a:lnTo>
                            <a:lnTo>
                              <a:pt x="22" y="71"/>
                            </a:lnTo>
                            <a:lnTo>
                              <a:pt x="33" y="76"/>
                            </a:lnTo>
                            <a:lnTo>
                              <a:pt x="73" y="52"/>
                            </a:lnTo>
                            <a:lnTo>
                              <a:pt x="76" y="7"/>
                            </a:lnTo>
                            <a:lnTo>
                              <a:pt x="47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4546440" y="4039920"/>
                      <a:ext cx="6516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6">
                          <a:moveTo>
                            <a:pt x="0" y="19"/>
                          </a:moveTo>
                          <a:lnTo>
                            <a:pt x="17" y="0"/>
                          </a:lnTo>
                          <a:lnTo>
                            <a:pt x="40" y="19"/>
                          </a:lnTo>
                          <a:lnTo>
                            <a:pt x="21" y="35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4465440" y="3886200"/>
                    <a:ext cx="1154160" cy="976320"/>
                    <a:chOff x="4465440" y="3886200"/>
                    <a:chExt cx="1154160" cy="97632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829040" y="3917880"/>
                      <a:ext cx="26964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5065560" y="3886200"/>
                      <a:ext cx="214200" cy="245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5273280" y="4157640"/>
                      <a:ext cx="346320" cy="4032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593960" y="4342320"/>
                      <a:ext cx="399960" cy="460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171760" y="4399920"/>
                      <a:ext cx="290520" cy="33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4492440" y="4434480"/>
                      <a:ext cx="21276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4465440" y="4219920"/>
                      <a:ext cx="21420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4568400" y="3978000"/>
                      <a:ext cx="347760" cy="39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883040" y="4461840"/>
                      <a:ext cx="345960" cy="400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5325840" y="4007880"/>
                      <a:ext cx="26820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248080" y="3886200"/>
                      <a:ext cx="241200" cy="2782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4555800" y="3959640"/>
                      <a:ext cx="1003320" cy="78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39">
                          <a:moveTo>
                            <a:pt x="194" y="33"/>
                          </a:moveTo>
                          <a:lnTo>
                            <a:pt x="221" y="9"/>
                          </a:lnTo>
                          <a:lnTo>
                            <a:pt x="339" y="11"/>
                          </a:lnTo>
                          <a:lnTo>
                            <a:pt x="422" y="0"/>
                          </a:lnTo>
                          <a:lnTo>
                            <a:pt x="527" y="40"/>
                          </a:lnTo>
                          <a:lnTo>
                            <a:pt x="580" y="28"/>
                          </a:lnTo>
                          <a:lnTo>
                            <a:pt x="608" y="33"/>
                          </a:lnTo>
                          <a:lnTo>
                            <a:pt x="614" y="134"/>
                          </a:lnTo>
                          <a:lnTo>
                            <a:pt x="631" y="150"/>
                          </a:lnTo>
                          <a:lnTo>
                            <a:pt x="582" y="228"/>
                          </a:lnTo>
                          <a:lnTo>
                            <a:pt x="529" y="175"/>
                          </a:lnTo>
                          <a:lnTo>
                            <a:pt x="514" y="202"/>
                          </a:lnTo>
                          <a:lnTo>
                            <a:pt x="440" y="309"/>
                          </a:lnTo>
                          <a:lnTo>
                            <a:pt x="190" y="338"/>
                          </a:lnTo>
                          <a:lnTo>
                            <a:pt x="60" y="317"/>
                          </a:lnTo>
                          <a:lnTo>
                            <a:pt x="20" y="251"/>
                          </a:lnTo>
                          <a:lnTo>
                            <a:pt x="20" y="183"/>
                          </a:lnTo>
                          <a:lnTo>
                            <a:pt x="0" y="126"/>
                          </a:lnTo>
                          <a:lnTo>
                            <a:pt x="194" y="33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1" name=""/>
                <p:cNvSpPr/>
                <p:nvPr/>
              </p:nvSpPr>
              <p:spPr>
                <a:xfrm>
                  <a:off x="4658040" y="4275720"/>
                  <a:ext cx="707400" cy="271440"/>
                </a:xfrm>
                <a:prstGeom prst="rect">
                  <a:avLst/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SPD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6095880" y="4191120"/>
                <a:ext cx="1752840" cy="115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eignisdaten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(X.25/X.31-Verbindung mit 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CU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oder ab 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Internet (FTP) + IPSe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3429000" y="3581280"/>
              <a:ext cx="1320840" cy="1447920"/>
            </a:xfrm>
            <a:custGeom>
              <a:avLst/>
              <a:gdLst/>
              <a:ahLst/>
              <a:rect l="l" t="t" r="r" b="b"/>
              <a:pathLst>
                <a:path w="832" h="912">
                  <a:moveTo>
                    <a:pt x="0" y="0"/>
                  </a:moveTo>
                  <a:cubicBezTo>
                    <a:pt x="152" y="24"/>
                    <a:pt x="304" y="48"/>
                    <a:pt x="432" y="144"/>
                  </a:cubicBezTo>
                  <a:cubicBezTo>
                    <a:pt x="560" y="240"/>
                    <a:pt x="704" y="448"/>
                    <a:pt x="768" y="576"/>
                  </a:cubicBezTo>
                  <a:cubicBezTo>
                    <a:pt x="832" y="704"/>
                    <a:pt x="808" y="856"/>
                    <a:pt x="816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809880" y="3429000"/>
            <a:ext cx="1524240" cy="1600200"/>
            <a:chOff x="3809880" y="3429000"/>
            <a:chExt cx="1524240" cy="1600200"/>
          </a:xfrm>
        </p:grpSpPr>
        <p:sp>
          <p:nvSpPr>
            <p:cNvPr id="235" name=""/>
            <p:cNvSpPr/>
            <p:nvPr/>
          </p:nvSpPr>
          <p:spPr>
            <a:xfrm>
              <a:off x="3809880" y="3429000"/>
              <a:ext cx="1219320" cy="1600200"/>
            </a:xfrm>
            <a:custGeom>
              <a:avLst/>
              <a:gdLst/>
              <a:ahLst/>
              <a:rect l="l" t="t" r="r" b="b"/>
              <a:pathLst>
                <a:path w="888" h="912">
                  <a:moveTo>
                    <a:pt x="888" y="0"/>
                  </a:moveTo>
                  <a:cubicBezTo>
                    <a:pt x="740" y="0"/>
                    <a:pt x="592" y="0"/>
                    <a:pt x="456" y="48"/>
                  </a:cubicBezTo>
                  <a:cubicBezTo>
                    <a:pt x="320" y="96"/>
                    <a:pt x="144" y="144"/>
                    <a:pt x="72" y="288"/>
                  </a:cubicBezTo>
                  <a:cubicBezTo>
                    <a:pt x="0" y="432"/>
                    <a:pt x="32" y="808"/>
                    <a:pt x="24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4120" y="365760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33520" y="1066680"/>
            <a:ext cx="8292960" cy="3018600"/>
            <a:chOff x="533520" y="1066680"/>
            <a:chExt cx="8292960" cy="3018600"/>
          </a:xfrm>
        </p:grpSpPr>
        <p:grpSp>
          <p:nvGrpSpPr>
            <p:cNvPr id="238" name=""/>
            <p:cNvGrpSpPr/>
            <p:nvPr/>
          </p:nvGrpSpPr>
          <p:grpSpPr>
            <a:xfrm>
              <a:off x="5181480" y="1066680"/>
              <a:ext cx="1905120" cy="1219320"/>
              <a:chOff x="5181480" y="1066680"/>
              <a:chExt cx="1905120" cy="121932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5181480" y="1066680"/>
                <a:ext cx="1905120" cy="1219320"/>
                <a:chOff x="5181480" y="1066680"/>
                <a:chExt cx="1905120" cy="121932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6303960" y="1179360"/>
                  <a:ext cx="782640" cy="1049400"/>
                  <a:chOff x="6303960" y="1179360"/>
                  <a:chExt cx="782640" cy="104940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6608880" y="1179360"/>
                    <a:ext cx="477720" cy="843120"/>
                    <a:chOff x="6608880" y="1179360"/>
                    <a:chExt cx="477720" cy="843120"/>
                  </a:xfrm>
                </p:grpSpPr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6734160" y="1290600"/>
                      <a:ext cx="352440" cy="619200"/>
                      <a:chOff x="6734160" y="1290600"/>
                      <a:chExt cx="352440" cy="619200"/>
                    </a:xfrm>
                  </p:grpSpPr>
                  <p:grpSp>
                    <p:nvGrpSpPr>
                      <p:cNvPr id="243" name=""/>
                      <p:cNvGrpSpPr/>
                      <p:nvPr/>
                    </p:nvGrpSpPr>
                    <p:grpSpPr>
                      <a:xfrm>
                        <a:off x="6734160" y="1290600"/>
                        <a:ext cx="352440" cy="619200"/>
                        <a:chOff x="6734160" y="1290600"/>
                        <a:chExt cx="352440" cy="619200"/>
                      </a:xfrm>
                    </p:grpSpPr>
                    <p:grpSp>
                      <p:nvGrpSpPr>
                        <p:cNvPr id="244" name=""/>
                        <p:cNvGrpSpPr/>
                        <p:nvPr/>
                      </p:nvGrpSpPr>
                      <p:grpSpPr>
                        <a:xfrm>
                          <a:off x="6827760" y="1328760"/>
                          <a:ext cx="258840" cy="504720"/>
                          <a:chOff x="6827760" y="1328760"/>
                          <a:chExt cx="258840" cy="504720"/>
                        </a:xfrm>
                      </p:grpSpPr>
                      <p:grpSp>
                        <p:nvGrpSpPr>
                          <p:cNvPr id="245" name=""/>
                          <p:cNvGrpSpPr/>
                          <p:nvPr/>
                        </p:nvGrpSpPr>
                        <p:grpSpPr>
                          <a:xfrm>
                            <a:off x="6858000" y="1328760"/>
                            <a:ext cx="228600" cy="504720"/>
                            <a:chOff x="6858000" y="1328760"/>
                            <a:chExt cx="228600" cy="504720"/>
                          </a:xfrm>
                        </p:grpSpPr>
                        <p:sp>
                          <p:nvSpPr>
                            <p:cNvPr id="246" name=""/>
                            <p:cNvSpPr/>
                            <p:nvPr/>
                          </p:nvSpPr>
                          <p:spPr>
                            <a:xfrm>
                              <a:off x="6983280" y="1630440"/>
                              <a:ext cx="103320" cy="1285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4280" bIns="442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7" name=""/>
                            <p:cNvSpPr/>
                            <p:nvPr/>
                          </p:nvSpPr>
                          <p:spPr>
                            <a:xfrm>
                              <a:off x="6888240" y="166680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8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103320" cy="1303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5360" bIns="45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9" name=""/>
                            <p:cNvSpPr/>
                            <p:nvPr/>
                          </p:nvSpPr>
                          <p:spPr>
                            <a:xfrm>
                              <a:off x="6858000" y="132876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0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96840" cy="289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1" h="182">
                                  <a:moveTo>
                                    <a:pt x="60" y="179"/>
                                  </a:moveTo>
                                  <a:lnTo>
                                    <a:pt x="33" y="181"/>
                                  </a:lnTo>
                                  <a:lnTo>
                                    <a:pt x="0" y="0"/>
                                  </a:lnTo>
                                  <a:lnTo>
                                    <a:pt x="37" y="13"/>
                                  </a:lnTo>
                                  <a:lnTo>
                                    <a:pt x="38" y="102"/>
                                  </a:lnTo>
                                  <a:lnTo>
                                    <a:pt x="60" y="17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51" name=""/>
                          <p:cNvSpPr/>
                          <p:nvPr/>
                        </p:nvSpPr>
                        <p:spPr>
                          <a:xfrm>
                            <a:off x="6827760" y="1479600"/>
                            <a:ext cx="195480" cy="24300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2" name=""/>
                          <p:cNvSpPr/>
                          <p:nvPr/>
                        </p:nvSpPr>
                        <p:spPr>
                          <a:xfrm>
                            <a:off x="6827760" y="1630440"/>
                            <a:ext cx="131760" cy="1666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3" name=""/>
                          <p:cNvSpPr/>
                          <p:nvPr/>
                        </p:nvSpPr>
                        <p:spPr>
                          <a:xfrm>
                            <a:off x="6869160" y="1407960"/>
                            <a:ext cx="101520" cy="31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" h="197">
                                <a:moveTo>
                                  <a:pt x="57" y="34"/>
                                </a:moveTo>
                                <a:lnTo>
                                  <a:pt x="50" y="74"/>
                                </a:lnTo>
                                <a:lnTo>
                                  <a:pt x="63" y="168"/>
                                </a:lnTo>
                                <a:lnTo>
                                  <a:pt x="37" y="196"/>
                                </a:lnTo>
                                <a:lnTo>
                                  <a:pt x="0" y="83"/>
                                </a:lnTo>
                                <a:lnTo>
                                  <a:pt x="30" y="0"/>
                                </a:lnTo>
                                <a:lnTo>
                                  <a:pt x="57" y="34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6827760" y="1779480"/>
                          <a:ext cx="100080" cy="1303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360" bIns="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6734160" y="1290600"/>
                          <a:ext cx="133200" cy="169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6859440" y="1746360"/>
                          <a:ext cx="7164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36">
                              <a:moveTo>
                                <a:pt x="44" y="22"/>
                              </a:moveTo>
                              <a:lnTo>
                                <a:pt x="30" y="35"/>
                              </a:lnTo>
                              <a:lnTo>
                                <a:pt x="0" y="17"/>
                              </a:lnTo>
                              <a:lnTo>
                                <a:pt x="30" y="0"/>
                              </a:lnTo>
                              <a:lnTo>
                                <a:pt x="44" y="2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6846840" y="1373040"/>
                        <a:ext cx="3960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60">
                            <a:moveTo>
                              <a:pt x="12" y="0"/>
                            </a:moveTo>
                            <a:lnTo>
                              <a:pt x="24" y="1"/>
                            </a:lnTo>
                            <a:lnTo>
                              <a:pt x="19" y="59"/>
                            </a:lnTo>
                            <a:lnTo>
                              <a:pt x="0" y="48"/>
                            </a:lnTo>
                            <a:lnTo>
                              <a:pt x="12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6608880" y="1179360"/>
                      <a:ext cx="318960" cy="766800"/>
                      <a:chOff x="6608880" y="1179360"/>
                      <a:chExt cx="318960" cy="76680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6638760" y="1630440"/>
                        <a:ext cx="258840" cy="315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6669000" y="1403280"/>
                        <a:ext cx="258840" cy="319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608880" y="1179360"/>
                        <a:ext cx="195120" cy="243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734160" y="1328760"/>
                        <a:ext cx="100080" cy="1285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280" bIns="44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>
                        <a:off x="6669000" y="1300320"/>
                        <a:ext cx="177840" cy="28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77">
                            <a:moveTo>
                              <a:pt x="77" y="7"/>
                            </a:moveTo>
                            <a:lnTo>
                              <a:pt x="77" y="28"/>
                            </a:lnTo>
                            <a:lnTo>
                              <a:pt x="104" y="67"/>
                            </a:lnTo>
                            <a:lnTo>
                              <a:pt x="111" y="71"/>
                            </a:lnTo>
                            <a:lnTo>
                              <a:pt x="71" y="176"/>
                            </a:lnTo>
                            <a:lnTo>
                              <a:pt x="0" y="0"/>
                            </a:lnTo>
                            <a:lnTo>
                              <a:pt x="77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754680" y="1689120"/>
                        <a:ext cx="11448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8">
                            <a:moveTo>
                              <a:pt x="62" y="7"/>
                            </a:moveTo>
                            <a:lnTo>
                              <a:pt x="71" y="21"/>
                            </a:lnTo>
                            <a:lnTo>
                              <a:pt x="0" y="47"/>
                            </a:lnTo>
                            <a:lnTo>
                              <a:pt x="2" y="0"/>
                            </a:lnTo>
                            <a:lnTo>
                              <a:pt x="62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6608880" y="1855800"/>
                      <a:ext cx="1350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703920" y="1835280"/>
                      <a:ext cx="7308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58">
                          <a:moveTo>
                            <a:pt x="18" y="57"/>
                          </a:moveTo>
                          <a:lnTo>
                            <a:pt x="45" y="37"/>
                          </a:lnTo>
                          <a:lnTo>
                            <a:pt x="13" y="0"/>
                          </a:lnTo>
                          <a:lnTo>
                            <a:pt x="0" y="21"/>
                          </a:lnTo>
                          <a:lnTo>
                            <a:pt x="18" y="57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7" name=""/>
                  <p:cNvSpPr/>
                  <p:nvPr/>
                </p:nvSpPr>
                <p:spPr>
                  <a:xfrm>
                    <a:off x="6303960" y="2025720"/>
                    <a:ext cx="163440" cy="203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450120" y="2025720"/>
                    <a:ext cx="137880" cy="166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39040" y="1965240"/>
                    <a:ext cx="133200" cy="165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410160" y="1935000"/>
                    <a:ext cx="29556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149">
                        <a:moveTo>
                          <a:pt x="172" y="43"/>
                        </a:moveTo>
                        <a:lnTo>
                          <a:pt x="154" y="53"/>
                        </a:lnTo>
                        <a:lnTo>
                          <a:pt x="104" y="112"/>
                        </a:lnTo>
                        <a:lnTo>
                          <a:pt x="92" y="137"/>
                        </a:lnTo>
                        <a:lnTo>
                          <a:pt x="38" y="137"/>
                        </a:lnTo>
                        <a:lnTo>
                          <a:pt x="28" y="148"/>
                        </a:lnTo>
                        <a:lnTo>
                          <a:pt x="0" y="105"/>
                        </a:lnTo>
                        <a:lnTo>
                          <a:pt x="125" y="0"/>
                        </a:lnTo>
                        <a:lnTo>
                          <a:pt x="185" y="24"/>
                        </a:lnTo>
                        <a:lnTo>
                          <a:pt x="172" y="4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181480" y="1185840"/>
                  <a:ext cx="465120" cy="725400"/>
                  <a:chOff x="5181480" y="1185840"/>
                  <a:chExt cx="465120" cy="725400"/>
                </a:xfrm>
              </p:grpSpPr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181480" y="1290600"/>
                    <a:ext cx="246240" cy="432000"/>
                    <a:chOff x="5181480" y="1290600"/>
                    <a:chExt cx="246240" cy="43200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5181480" y="1441440"/>
                      <a:ext cx="9864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5202360" y="1555920"/>
                      <a:ext cx="1332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5230800" y="1290600"/>
                      <a:ext cx="196920" cy="2430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5213520" y="1455840"/>
                      <a:ext cx="7272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85">
                          <a:moveTo>
                            <a:pt x="25" y="0"/>
                          </a:moveTo>
                          <a:lnTo>
                            <a:pt x="0" y="17"/>
                          </a:lnTo>
                          <a:lnTo>
                            <a:pt x="0" y="67"/>
                          </a:lnTo>
                          <a:lnTo>
                            <a:pt x="10" y="84"/>
                          </a:lnTo>
                          <a:lnTo>
                            <a:pt x="45" y="67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5264280" y="1185840"/>
                    <a:ext cx="382320" cy="725400"/>
                    <a:chOff x="5264280" y="1185840"/>
                    <a:chExt cx="382320" cy="7254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5389560" y="1217520"/>
                      <a:ext cx="257040" cy="316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5264280" y="1441440"/>
                      <a:ext cx="134640" cy="1681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5295960" y="1555920"/>
                      <a:ext cx="196920" cy="2426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5359320" y="1666800"/>
                      <a:ext cx="192240" cy="2444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5372280" y="1371600"/>
                      <a:ext cx="176040" cy="208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5530680" y="1185840"/>
                      <a:ext cx="100080" cy="12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427720" y="1327320"/>
                      <a:ext cx="12708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68">
                          <a:moveTo>
                            <a:pt x="0" y="19"/>
                          </a:moveTo>
                          <a:lnTo>
                            <a:pt x="10" y="49"/>
                          </a:lnTo>
                          <a:lnTo>
                            <a:pt x="79" y="67"/>
                          </a:lnTo>
                          <a:lnTo>
                            <a:pt x="79" y="26"/>
                          </a:lnTo>
                          <a:lnTo>
                            <a:pt x="5" y="0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5302080" y="1521000"/>
                      <a:ext cx="146160" cy="22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140">
                          <a:moveTo>
                            <a:pt x="56" y="0"/>
                          </a:moveTo>
                          <a:lnTo>
                            <a:pt x="0" y="35"/>
                          </a:lnTo>
                          <a:lnTo>
                            <a:pt x="23" y="62"/>
                          </a:lnTo>
                          <a:lnTo>
                            <a:pt x="26" y="131"/>
                          </a:lnTo>
                          <a:lnTo>
                            <a:pt x="39" y="139"/>
                          </a:lnTo>
                          <a:lnTo>
                            <a:pt x="87" y="95"/>
                          </a:lnTo>
                          <a:lnTo>
                            <a:pt x="91" y="13"/>
                          </a:lnTo>
                          <a:lnTo>
                            <a:pt x="56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"/>
                  <p:cNvSpPr/>
                  <p:nvPr/>
                </p:nvSpPr>
                <p:spPr>
                  <a:xfrm>
                    <a:off x="5516640" y="1263600"/>
                    <a:ext cx="792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0" y="35"/>
                        </a:moveTo>
                        <a:lnTo>
                          <a:pt x="21" y="0"/>
                        </a:lnTo>
                        <a:lnTo>
                          <a:pt x="49" y="35"/>
                        </a:lnTo>
                        <a:lnTo>
                          <a:pt x="26" y="64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5419800" y="1066680"/>
                  <a:ext cx="1384200" cy="1219320"/>
                  <a:chOff x="5419800" y="1066680"/>
                  <a:chExt cx="1384200" cy="12193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5856120" y="1104840"/>
                    <a:ext cx="324000" cy="3906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6138720" y="1066680"/>
                    <a:ext cx="257400" cy="316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389640" y="1405080"/>
                    <a:ext cx="414360" cy="5061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573880" y="1630440"/>
                    <a:ext cx="477720" cy="581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265800" y="1704960"/>
                    <a:ext cx="349200" cy="4287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5450040" y="1743120"/>
                    <a:ext cx="2570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419800" y="1479600"/>
                    <a:ext cx="257040" cy="3157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5543640" y="1179360"/>
                    <a:ext cx="417600" cy="505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919840" y="1779480"/>
                    <a:ext cx="415800" cy="506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6450120" y="1217520"/>
                    <a:ext cx="323640" cy="392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356520" y="1066680"/>
                    <a:ext cx="291960" cy="354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527800" y="1162080"/>
                    <a:ext cx="1203120" cy="9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610">
                        <a:moveTo>
                          <a:pt x="233" y="61"/>
                        </a:moveTo>
                        <a:lnTo>
                          <a:pt x="265" y="18"/>
                        </a:lnTo>
                        <a:lnTo>
                          <a:pt x="407" y="21"/>
                        </a:lnTo>
                        <a:lnTo>
                          <a:pt x="506" y="0"/>
                        </a:lnTo>
                        <a:lnTo>
                          <a:pt x="632" y="72"/>
                        </a:lnTo>
                        <a:lnTo>
                          <a:pt x="696" y="52"/>
                        </a:lnTo>
                        <a:lnTo>
                          <a:pt x="729" y="61"/>
                        </a:lnTo>
                        <a:lnTo>
                          <a:pt x="736" y="243"/>
                        </a:lnTo>
                        <a:lnTo>
                          <a:pt x="757" y="270"/>
                        </a:lnTo>
                        <a:lnTo>
                          <a:pt x="698" y="411"/>
                        </a:lnTo>
                        <a:lnTo>
                          <a:pt x="634" y="316"/>
                        </a:lnTo>
                        <a:lnTo>
                          <a:pt x="616" y="364"/>
                        </a:lnTo>
                        <a:lnTo>
                          <a:pt x="528" y="557"/>
                        </a:lnTo>
                        <a:lnTo>
                          <a:pt x="228" y="609"/>
                        </a:lnTo>
                        <a:lnTo>
                          <a:pt x="72" y="571"/>
                        </a:lnTo>
                        <a:lnTo>
                          <a:pt x="24" y="452"/>
                        </a:lnTo>
                        <a:lnTo>
                          <a:pt x="24" y="330"/>
                        </a:lnTo>
                        <a:lnTo>
                          <a:pt x="0" y="227"/>
                        </a:lnTo>
                        <a:lnTo>
                          <a:pt x="233" y="61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0" name=""/>
              <p:cNvSpPr/>
              <p:nvPr/>
            </p:nvSpPr>
            <p:spPr>
              <a:xfrm>
                <a:off x="5651640" y="1554120"/>
                <a:ext cx="1078920" cy="45396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t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ISDN, GS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981080" y="1752480"/>
              <a:ext cx="1498680" cy="221004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1752480"/>
              <a:ext cx="4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34320" y="1905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18288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ZÜ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05120" y="1752480"/>
              <a:ext cx="1981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-Netzkno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0" y="2438280"/>
              <a:ext cx="1066680" cy="6858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71800" y="3429000"/>
              <a:ext cx="457200" cy="304920"/>
            </a:xfrm>
            <a:prstGeom prst="rect">
              <a:avLst/>
            </a:prstGeom>
            <a:solidFill>
              <a:srgbClr val="00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3080" y="2590920"/>
              <a:ext cx="1752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oice  Mail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19520" y="2590920"/>
              <a:ext cx="22860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95480" y="2743200"/>
              <a:ext cx="2210040" cy="60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11520" y="255276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63800" y="270504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743200" y="1600200"/>
              <a:ext cx="25146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95480" y="1752480"/>
              <a:ext cx="243864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219320" y="27432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218960" y="2590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7315200" y="1447920"/>
            <a:ext cx="1028880" cy="77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1447920"/>
                      <a:ext cx="102888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32" name=""/>
            <p:cNvGrpSpPr/>
            <p:nvPr/>
          </p:nvGrpSpPr>
          <p:grpSpPr>
            <a:xfrm>
              <a:off x="5791320" y="2057400"/>
              <a:ext cx="228600" cy="990720"/>
              <a:chOff x="5791320" y="2057400"/>
              <a:chExt cx="228600" cy="990720"/>
            </a:xfrm>
          </p:grpSpPr>
          <p:sp>
            <p:nvSpPr>
              <p:cNvPr id="333" name=""/>
              <p:cNvSpPr/>
              <p:nvPr/>
            </p:nvSpPr>
            <p:spPr>
              <a:xfrm>
                <a:off x="5791320" y="2057400"/>
                <a:ext cx="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19920" y="2209680"/>
                <a:ext cx="0" cy="83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35" name="" descr="Zum Downloaden klicken"/>
            <p:cNvPicPr/>
            <p:nvPr/>
          </p:nvPicPr>
          <p:blipFill>
            <a:blip r:embed="rId5"/>
            <a:stretch/>
          </p:blipFill>
          <p:spPr>
            <a:xfrm>
              <a:off x="533520" y="2209680"/>
              <a:ext cx="990360" cy="99072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F5CC-F72F-42A9-B3B2-DE16D0A4078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1668D6-4D72-4929-9811-62C4D07294A6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intelligenten Ne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0" name=""/>
          <p:cNvGrpSpPr/>
          <p:nvPr/>
        </p:nvGrpSpPr>
        <p:grpSpPr>
          <a:xfrm>
            <a:off x="2058840" y="2590920"/>
            <a:ext cx="2284560" cy="609480"/>
            <a:chOff x="2058840" y="2590920"/>
            <a:chExt cx="2284560" cy="609480"/>
          </a:xfrm>
        </p:grpSpPr>
        <p:sp>
          <p:nvSpPr>
            <p:cNvPr id="341" name=""/>
            <p:cNvSpPr/>
            <p:nvPr/>
          </p:nvSpPr>
          <p:spPr>
            <a:xfrm>
              <a:off x="3962520" y="2590920"/>
              <a:ext cx="380880" cy="609480"/>
            </a:xfrm>
            <a:prstGeom prst="upArrow">
              <a:avLst>
                <a:gd name="adj1" fmla="val 50000"/>
                <a:gd name="adj2" fmla="val 400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58840" y="2819520"/>
              <a:ext cx="185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572000" y="2590920"/>
            <a:ext cx="1749960" cy="609480"/>
            <a:chOff x="4572000" y="2590920"/>
            <a:chExt cx="1749960" cy="609480"/>
          </a:xfrm>
        </p:grpSpPr>
        <p:sp>
          <p:nvSpPr>
            <p:cNvPr id="344" name=""/>
            <p:cNvSpPr/>
            <p:nvPr/>
          </p:nvSpPr>
          <p:spPr>
            <a:xfrm>
              <a:off x="4572000" y="2590920"/>
              <a:ext cx="343080" cy="609480"/>
            </a:xfrm>
            <a:prstGeom prst="downArrow">
              <a:avLst>
                <a:gd name="adj1" fmla="val 50000"/>
                <a:gd name="adj2" fmla="val 4441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78000" y="2743200"/>
              <a:ext cx="144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0" y="1523880"/>
            <a:ext cx="1523880" cy="641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Übersetzung der IN- Rufnummer in eine Zielruf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8600" y="3733920"/>
            <a:ext cx="8458200" cy="1600200"/>
            <a:chOff x="228600" y="3733920"/>
            <a:chExt cx="8458200" cy="1600200"/>
          </a:xfrm>
        </p:grpSpPr>
        <p:sp>
          <p:nvSpPr>
            <p:cNvPr id="348" name=""/>
            <p:cNvSpPr/>
            <p:nvPr/>
          </p:nvSpPr>
          <p:spPr>
            <a:xfrm>
              <a:off x="3085920" y="3733920"/>
              <a:ext cx="2514600" cy="1600200"/>
            </a:xfrm>
            <a:prstGeom prst="rect">
              <a:avLst/>
            </a:prstGeom>
            <a:solidFill>
              <a:srgbClr val="ff99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228600" y="4572000"/>
            <a:ext cx="457200" cy="19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45720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685800" y="4648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86000" y="4648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6360" y="4191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34640" y="5029200"/>
              <a:ext cx="137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SDN-Netzknote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5" name=""/>
            <p:cNvGraphicFramePr/>
            <p:nvPr/>
          </p:nvGraphicFramePr>
          <p:xfrm>
            <a:off x="8229600" y="4603680"/>
            <a:ext cx="457200" cy="19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29600" y="4603680"/>
                      <a:ext cx="457200" cy="1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7" name=""/>
            <p:cNvSpPr/>
            <p:nvPr/>
          </p:nvSpPr>
          <p:spPr>
            <a:xfrm>
              <a:off x="563868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4380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07360" y="42991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990360" y="4267080"/>
              <a:ext cx="1599120" cy="673200"/>
              <a:chOff x="990360" y="4267080"/>
              <a:chExt cx="1599120" cy="67320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990360" y="4267080"/>
                <a:ext cx="1599120" cy="673200"/>
                <a:chOff x="990360" y="4267080"/>
                <a:chExt cx="1599120" cy="67320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1931400" y="4330800"/>
                  <a:ext cx="658080" cy="577800"/>
                  <a:chOff x="1931400" y="4330800"/>
                  <a:chExt cx="658080" cy="57780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2187000" y="4330800"/>
                    <a:ext cx="402480" cy="461880"/>
                    <a:chOff x="2187000" y="4330800"/>
                    <a:chExt cx="402480" cy="461880"/>
                  </a:xfrm>
                </p:grpSpPr>
                <p:grpSp>
                  <p:nvGrpSpPr>
                    <p:cNvPr id="364" name=""/>
                    <p:cNvGrpSpPr/>
                    <p:nvPr/>
                  </p:nvGrpSpPr>
                  <p:grpSpPr>
                    <a:xfrm>
                      <a:off x="2292120" y="4390920"/>
                      <a:ext cx="297360" cy="339840"/>
                      <a:chOff x="2292120" y="4390920"/>
                      <a:chExt cx="297360" cy="339840"/>
                    </a:xfrm>
                  </p:grpSpPr>
                  <p:grpSp>
                    <p:nvGrpSpPr>
                      <p:cNvPr id="365" name=""/>
                      <p:cNvGrpSpPr/>
                      <p:nvPr/>
                    </p:nvGrpSpPr>
                    <p:grpSpPr>
                      <a:xfrm>
                        <a:off x="2292120" y="4390920"/>
                        <a:ext cx="297360" cy="339840"/>
                        <a:chOff x="2292120" y="4390920"/>
                        <a:chExt cx="297360" cy="339840"/>
                      </a:xfrm>
                    </p:grpSpPr>
                    <p:grpSp>
                      <p:nvGrpSpPr>
                        <p:cNvPr id="366" name=""/>
                        <p:cNvGrpSpPr/>
                        <p:nvPr/>
                      </p:nvGrpSpPr>
                      <p:grpSpPr>
                        <a:xfrm>
                          <a:off x="2370600" y="4413240"/>
                          <a:ext cx="218880" cy="276120"/>
                          <a:chOff x="2370600" y="4413240"/>
                          <a:chExt cx="218880" cy="276120"/>
                        </a:xfrm>
                      </p:grpSpPr>
                      <p:grpSp>
                        <p:nvGrpSpPr>
                          <p:cNvPr id="367" name=""/>
                          <p:cNvGrpSpPr/>
                          <p:nvPr/>
                        </p:nvGrpSpPr>
                        <p:grpSpPr>
                          <a:xfrm>
                            <a:off x="2394360" y="4413240"/>
                            <a:ext cx="195120" cy="276120"/>
                            <a:chOff x="2394360" y="4413240"/>
                            <a:chExt cx="195120" cy="276120"/>
                          </a:xfrm>
                        </p:grpSpPr>
                        <p:sp>
                          <p:nvSpPr>
                            <p:cNvPr id="368" name=""/>
                            <p:cNvSpPr/>
                            <p:nvPr/>
                          </p:nvSpPr>
                          <p:spPr>
                            <a:xfrm>
                              <a:off x="2500560" y="4581360"/>
                              <a:ext cx="8892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9" name=""/>
                            <p:cNvSpPr/>
                            <p:nvPr/>
                          </p:nvSpPr>
                          <p:spPr>
                            <a:xfrm>
                              <a:off x="2421000" y="4600440"/>
                              <a:ext cx="1155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0" name=""/>
                            <p:cNvSpPr/>
                            <p:nvPr/>
                          </p:nvSpPr>
                          <p:spPr>
                            <a:xfrm>
                              <a:off x="2472840" y="4475160"/>
                              <a:ext cx="8892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1" name=""/>
                            <p:cNvSpPr/>
                            <p:nvPr/>
                          </p:nvSpPr>
                          <p:spPr>
                            <a:xfrm>
                              <a:off x="2394360" y="4413240"/>
                              <a:ext cx="1144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2" name=""/>
                            <p:cNvSpPr/>
                            <p:nvPr/>
                          </p:nvSpPr>
                          <p:spPr>
                            <a:xfrm>
                              <a:off x="2475360" y="4473720"/>
                              <a:ext cx="784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3" name=""/>
                          <p:cNvSpPr/>
                          <p:nvPr/>
                        </p:nvSpPr>
                        <p:spPr>
                          <a:xfrm>
                            <a:off x="2370600" y="4497480"/>
                            <a:ext cx="16740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4" name=""/>
                          <p:cNvSpPr/>
                          <p:nvPr/>
                        </p:nvSpPr>
                        <p:spPr>
                          <a:xfrm>
                            <a:off x="2370600" y="4581360"/>
                            <a:ext cx="1130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5" name=""/>
                          <p:cNvSpPr/>
                          <p:nvPr/>
                        </p:nvSpPr>
                        <p:spPr>
                          <a:xfrm>
                            <a:off x="2407320" y="4454640"/>
                            <a:ext cx="8280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76" name=""/>
                        <p:cNvSpPr/>
                        <p:nvPr/>
                      </p:nvSpPr>
                      <p:spPr>
                        <a:xfrm>
                          <a:off x="2370600" y="4664160"/>
                          <a:ext cx="8784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>
                          <a:off x="2292120" y="4390920"/>
                          <a:ext cx="1144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" name=""/>
                        <p:cNvSpPr/>
                        <p:nvPr/>
                      </p:nvSpPr>
                      <p:spPr>
                        <a:xfrm>
                          <a:off x="2399400" y="4641840"/>
                          <a:ext cx="579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2387880" y="4435560"/>
                        <a:ext cx="320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2187000" y="4330800"/>
                      <a:ext cx="271080" cy="420480"/>
                      <a:chOff x="2187000" y="4330800"/>
                      <a:chExt cx="271080" cy="42048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2212200" y="4581360"/>
                        <a:ext cx="21960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2236320" y="4454640"/>
                        <a:ext cx="22176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2187000" y="4330800"/>
                        <a:ext cx="16632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2291760" y="4413240"/>
                        <a:ext cx="8748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2239920" y="4395600"/>
                        <a:ext cx="1465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2310480" y="4611600"/>
                        <a:ext cx="95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2187000" y="470520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2267640" y="4692600"/>
                      <a:ext cx="601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9" name=""/>
                  <p:cNvSpPr/>
                  <p:nvPr/>
                </p:nvSpPr>
                <p:spPr>
                  <a:xfrm>
                    <a:off x="1931400" y="4800600"/>
                    <a:ext cx="13968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053800" y="4800600"/>
                    <a:ext cx="11772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26520" y="4767120"/>
                    <a:ext cx="1144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021400" y="4746600"/>
                    <a:ext cx="2458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990360" y="4334040"/>
                  <a:ext cx="392760" cy="398160"/>
                  <a:chOff x="990360" y="4334040"/>
                  <a:chExt cx="392760" cy="398160"/>
                </a:xfrm>
              </p:grpSpPr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990360" y="4390920"/>
                    <a:ext cx="208440" cy="235080"/>
                    <a:chOff x="990360" y="4390920"/>
                    <a:chExt cx="208440" cy="23508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990360" y="4475160"/>
                      <a:ext cx="8532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1007280" y="4538520"/>
                      <a:ext cx="1152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1031400" y="4390920"/>
                      <a:ext cx="1674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1018800" y="4481640"/>
                      <a:ext cx="5976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1059480" y="4334040"/>
                    <a:ext cx="323640" cy="398160"/>
                    <a:chOff x="1059480" y="4334040"/>
                    <a:chExt cx="323640" cy="39816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1163520" y="4351320"/>
                      <a:ext cx="21960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1059480" y="447516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1084680" y="4538520"/>
                      <a:ext cx="1695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1139040" y="4600440"/>
                      <a:ext cx="16272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1149480" y="4437000"/>
                      <a:ext cx="15012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1282320" y="4334040"/>
                      <a:ext cx="8676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1197000" y="4410000"/>
                      <a:ext cx="1062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1091880" y="4518000"/>
                      <a:ext cx="12132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8" name=""/>
                  <p:cNvSpPr/>
                  <p:nvPr/>
                </p:nvSpPr>
                <p:spPr>
                  <a:xfrm>
                    <a:off x="1272240" y="4373640"/>
                    <a:ext cx="644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1189080" y="4267080"/>
                  <a:ext cx="1163880" cy="673200"/>
                  <a:chOff x="1189080" y="4267080"/>
                  <a:chExt cx="1163880" cy="673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1554480" y="4289400"/>
                    <a:ext cx="2746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792440" y="42670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001600" y="4454640"/>
                    <a:ext cx="35136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1319400" y="4581360"/>
                    <a:ext cx="40464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899000" y="4621320"/>
                    <a:ext cx="2970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215720" y="4645080"/>
                    <a:ext cx="21816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1189080" y="44974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294200" y="4330800"/>
                    <a:ext cx="35136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609560" y="4664160"/>
                    <a:ext cx="35136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053800" y="4351320"/>
                    <a:ext cx="273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976400" y="4267080"/>
                    <a:ext cx="2473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281600" y="4317840"/>
                    <a:ext cx="10080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>
                <a:off x="13849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5880" y="4267080"/>
              <a:ext cx="1750680" cy="673200"/>
              <a:chOff x="6095880" y="4267080"/>
              <a:chExt cx="1750680" cy="6732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6095880" y="4267080"/>
                <a:ext cx="1750680" cy="673200"/>
                <a:chOff x="6095880" y="4267080"/>
                <a:chExt cx="1750680" cy="6732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7126200" y="4330800"/>
                  <a:ext cx="720360" cy="577800"/>
                  <a:chOff x="7126200" y="4330800"/>
                  <a:chExt cx="720360" cy="5778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7405920" y="4330800"/>
                    <a:ext cx="440640" cy="461880"/>
                    <a:chOff x="7405920" y="4330800"/>
                    <a:chExt cx="440640" cy="461880"/>
                  </a:xfrm>
                </p:grpSpPr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7520760" y="4390920"/>
                      <a:ext cx="325800" cy="339840"/>
                      <a:chOff x="7520760" y="4390920"/>
                      <a:chExt cx="325800" cy="339840"/>
                    </a:xfrm>
                  </p:grpSpPr>
                  <p:grpSp>
                    <p:nvGrpSpPr>
                      <p:cNvPr id="428" name=""/>
                      <p:cNvGrpSpPr/>
                      <p:nvPr/>
                    </p:nvGrpSpPr>
                    <p:grpSpPr>
                      <a:xfrm>
                        <a:off x="7520760" y="4390920"/>
                        <a:ext cx="325800" cy="339840"/>
                        <a:chOff x="7520760" y="4390920"/>
                        <a:chExt cx="325800" cy="339840"/>
                      </a:xfrm>
                    </p:grpSpPr>
                    <p:grpSp>
                      <p:nvGrpSpPr>
                        <p:cNvPr id="429" name=""/>
                        <p:cNvGrpSpPr/>
                        <p:nvPr/>
                      </p:nvGrpSpPr>
                      <p:grpSpPr>
                        <a:xfrm>
                          <a:off x="7606800" y="4413240"/>
                          <a:ext cx="239760" cy="276120"/>
                          <a:chOff x="7606800" y="4413240"/>
                          <a:chExt cx="239760" cy="276120"/>
                        </a:xfrm>
                      </p:grpSpPr>
                      <p:grpSp>
                        <p:nvGrpSpPr>
                          <p:cNvPr id="430" name=""/>
                          <p:cNvGrpSpPr/>
                          <p:nvPr/>
                        </p:nvGrpSpPr>
                        <p:grpSpPr>
                          <a:xfrm>
                            <a:off x="7633080" y="4413240"/>
                            <a:ext cx="213480" cy="276120"/>
                            <a:chOff x="7633080" y="4413240"/>
                            <a:chExt cx="213480" cy="276120"/>
                          </a:xfrm>
                        </p:grpSpPr>
                        <p:sp>
                          <p:nvSpPr>
                            <p:cNvPr id="431" name=""/>
                            <p:cNvSpPr/>
                            <p:nvPr/>
                          </p:nvSpPr>
                          <p:spPr>
                            <a:xfrm>
                              <a:off x="7749360" y="4581360"/>
                              <a:ext cx="972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2" name=""/>
                            <p:cNvSpPr/>
                            <p:nvPr/>
                          </p:nvSpPr>
                          <p:spPr>
                            <a:xfrm>
                              <a:off x="7662240" y="4600440"/>
                              <a:ext cx="1263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3" name=""/>
                            <p:cNvSpPr/>
                            <p:nvPr/>
                          </p:nvSpPr>
                          <p:spPr>
                            <a:xfrm>
                              <a:off x="7718760" y="4475160"/>
                              <a:ext cx="972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4" name=""/>
                            <p:cNvSpPr/>
                            <p:nvPr/>
                          </p:nvSpPr>
                          <p:spPr>
                            <a:xfrm>
                              <a:off x="7633080" y="4413240"/>
                              <a:ext cx="1252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5" name=""/>
                            <p:cNvSpPr/>
                            <p:nvPr/>
                          </p:nvSpPr>
                          <p:spPr>
                            <a:xfrm>
                              <a:off x="7721640" y="4473720"/>
                              <a:ext cx="856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6" name=""/>
                          <p:cNvSpPr/>
                          <p:nvPr/>
                        </p:nvSpPr>
                        <p:spPr>
                          <a:xfrm>
                            <a:off x="7606800" y="4497480"/>
                            <a:ext cx="18324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7" name=""/>
                          <p:cNvSpPr/>
                          <p:nvPr/>
                        </p:nvSpPr>
                        <p:spPr>
                          <a:xfrm>
                            <a:off x="7606800" y="4581360"/>
                            <a:ext cx="1238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8" name=""/>
                          <p:cNvSpPr/>
                          <p:nvPr/>
                        </p:nvSpPr>
                        <p:spPr>
                          <a:xfrm>
                            <a:off x="7647120" y="4454640"/>
                            <a:ext cx="907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>
                          <a:off x="7606800" y="4664160"/>
                          <a:ext cx="9612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>
                          <a:off x="7520760" y="4390920"/>
                          <a:ext cx="1252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>
                          <a:off x="7638120" y="4641840"/>
                          <a:ext cx="633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7625520" y="4435560"/>
                        <a:ext cx="35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3" name=""/>
                    <p:cNvGrpSpPr/>
                    <p:nvPr/>
                  </p:nvGrpSpPr>
                  <p:grpSpPr>
                    <a:xfrm>
                      <a:off x="7405920" y="4330800"/>
                      <a:ext cx="297000" cy="420480"/>
                      <a:chOff x="7405920" y="4330800"/>
                      <a:chExt cx="297000" cy="420480"/>
                    </a:xfrm>
                  </p:grpSpPr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7433640" y="4581360"/>
                        <a:ext cx="24048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7459920" y="4454640"/>
                        <a:ext cx="24300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7405920" y="4330800"/>
                        <a:ext cx="18216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7520760" y="4413240"/>
                        <a:ext cx="9612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7463880" y="4395600"/>
                        <a:ext cx="16056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7541280" y="4611600"/>
                        <a:ext cx="104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7405920" y="4705200"/>
                      <a:ext cx="1274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7494120" y="4692600"/>
                      <a:ext cx="658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2" name=""/>
                  <p:cNvSpPr/>
                  <p:nvPr/>
                </p:nvSpPr>
                <p:spPr>
                  <a:xfrm>
                    <a:off x="7126200" y="4800600"/>
                    <a:ext cx="15300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260480" y="4800600"/>
                    <a:ext cx="1288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340040" y="4767120"/>
                    <a:ext cx="1252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224840" y="4746600"/>
                    <a:ext cx="2692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6095880" y="4334040"/>
                  <a:ext cx="429480" cy="398160"/>
                  <a:chOff x="6095880" y="4334040"/>
                  <a:chExt cx="429480" cy="398160"/>
                </a:xfrm>
              </p:grpSpPr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6095880" y="4390920"/>
                    <a:ext cx="228600" cy="235080"/>
                    <a:chOff x="6095880" y="4390920"/>
                    <a:chExt cx="228600" cy="23508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6095880" y="4475160"/>
                      <a:ext cx="9324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6114600" y="4538520"/>
                      <a:ext cx="12636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6140880" y="4390920"/>
                      <a:ext cx="1836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6127200" y="4481640"/>
                      <a:ext cx="655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6171480" y="4334040"/>
                    <a:ext cx="353880" cy="398160"/>
                    <a:chOff x="6171480" y="4334040"/>
                    <a:chExt cx="353880" cy="3981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6285240" y="4351320"/>
                      <a:ext cx="24012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6171480" y="4475160"/>
                      <a:ext cx="1278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6199200" y="4538520"/>
                      <a:ext cx="1857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6258600" y="4600440"/>
                      <a:ext cx="17820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6270120" y="4437000"/>
                      <a:ext cx="16416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6415560" y="4334040"/>
                      <a:ext cx="9468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6321960" y="4410000"/>
                      <a:ext cx="1162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6206760" y="4518000"/>
                      <a:ext cx="1324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1" name=""/>
                  <p:cNvSpPr/>
                  <p:nvPr/>
                </p:nvSpPr>
                <p:spPr>
                  <a:xfrm>
                    <a:off x="6404400" y="4373640"/>
                    <a:ext cx="70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6313320" y="4267080"/>
                  <a:ext cx="1274760" cy="673200"/>
                  <a:chOff x="6313320" y="4267080"/>
                  <a:chExt cx="1274760" cy="67320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6713280" y="4289400"/>
                    <a:ext cx="300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6974280" y="42670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3240" y="4454640"/>
                    <a:ext cx="38484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456240" y="4581360"/>
                    <a:ext cx="44316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090560" y="4621320"/>
                    <a:ext cx="32508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342480" y="4645080"/>
                    <a:ext cx="23904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313320" y="44974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428160" y="4330800"/>
                    <a:ext cx="38484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774120" y="4664160"/>
                    <a:ext cx="38484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260480" y="4351320"/>
                    <a:ext cx="2998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175520" y="4267080"/>
                    <a:ext cx="2707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414480" y="4317840"/>
                    <a:ext cx="110376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5" name=""/>
              <p:cNvSpPr/>
              <p:nvPr/>
            </p:nvSpPr>
            <p:spPr>
              <a:xfrm>
                <a:off x="65293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3581280" y="4343400"/>
              <a:ext cx="1600200" cy="68580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408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90840" y="4676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733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029200" y="1219320"/>
            <a:ext cx="3733920" cy="2133360"/>
            <a:chOff x="5029200" y="1219320"/>
            <a:chExt cx="3733920" cy="2133360"/>
          </a:xfrm>
        </p:grpSpPr>
        <p:grpSp>
          <p:nvGrpSpPr>
            <p:cNvPr id="491" name=""/>
            <p:cNvGrpSpPr/>
            <p:nvPr/>
          </p:nvGrpSpPr>
          <p:grpSpPr>
            <a:xfrm>
              <a:off x="5715000" y="1219320"/>
              <a:ext cx="2359080" cy="1217520"/>
              <a:chOff x="5715000" y="1219320"/>
              <a:chExt cx="2359080" cy="121752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5715000" y="1219320"/>
                <a:ext cx="2359080" cy="1217520"/>
                <a:chOff x="5715000" y="1219320"/>
                <a:chExt cx="2359080" cy="12175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7103880" y="1334520"/>
                  <a:ext cx="970200" cy="1044720"/>
                  <a:chOff x="7103880" y="1334520"/>
                  <a:chExt cx="970200" cy="1044720"/>
                </a:xfrm>
              </p:grpSpPr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7480800" y="1334520"/>
                    <a:ext cx="593280" cy="834480"/>
                    <a:chOff x="7480800" y="1334520"/>
                    <a:chExt cx="593280" cy="834480"/>
                  </a:xfrm>
                </p:grpSpPr>
                <p:grpSp>
                  <p:nvGrpSpPr>
                    <p:cNvPr id="495" name=""/>
                    <p:cNvGrpSpPr/>
                    <p:nvPr/>
                  </p:nvGrpSpPr>
                  <p:grpSpPr>
                    <a:xfrm>
                      <a:off x="7635600" y="1442880"/>
                      <a:ext cx="438480" cy="613080"/>
                      <a:chOff x="7635600" y="1442880"/>
                      <a:chExt cx="438480" cy="613080"/>
                    </a:xfrm>
                  </p:grpSpPr>
                  <p:grpSp>
                    <p:nvGrpSpPr>
                      <p:cNvPr id="496" name=""/>
                      <p:cNvGrpSpPr/>
                      <p:nvPr/>
                    </p:nvGrpSpPr>
                    <p:grpSpPr>
                      <a:xfrm>
                        <a:off x="7635600" y="1442880"/>
                        <a:ext cx="438480" cy="613080"/>
                        <a:chOff x="7635600" y="1442880"/>
                        <a:chExt cx="438480" cy="613080"/>
                      </a:xfrm>
                    </p:grpSpPr>
                    <p:grpSp>
                      <p:nvGrpSpPr>
                        <p:cNvPr id="497" name=""/>
                        <p:cNvGrpSpPr/>
                        <p:nvPr/>
                      </p:nvGrpSpPr>
                      <p:grpSpPr>
                        <a:xfrm>
                          <a:off x="7751160" y="1482840"/>
                          <a:ext cx="322920" cy="497520"/>
                          <a:chOff x="7751160" y="1482840"/>
                          <a:chExt cx="322920" cy="497520"/>
                        </a:xfrm>
                      </p:grpSpPr>
                      <p:grpSp>
                        <p:nvGrpSpPr>
                          <p:cNvPr id="498" name=""/>
                          <p:cNvGrpSpPr/>
                          <p:nvPr/>
                        </p:nvGrpSpPr>
                        <p:grpSpPr>
                          <a:xfrm>
                            <a:off x="7786440" y="1482840"/>
                            <a:ext cx="287640" cy="497520"/>
                            <a:chOff x="7786440" y="1482840"/>
                            <a:chExt cx="287640" cy="497520"/>
                          </a:xfrm>
                        </p:grpSpPr>
                        <p:sp>
                          <p:nvSpPr>
                            <p:cNvPr id="499" name=""/>
                            <p:cNvSpPr/>
                            <p:nvPr/>
                          </p:nvSpPr>
                          <p:spPr>
                            <a:xfrm>
                              <a:off x="7943040" y="1785600"/>
                              <a:ext cx="131040" cy="1173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6720" bIns="36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0" name=""/>
                            <p:cNvSpPr/>
                            <p:nvPr/>
                          </p:nvSpPr>
                          <p:spPr>
                            <a:xfrm>
                              <a:off x="7825680" y="1820160"/>
                              <a:ext cx="169920" cy="1602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1" name=""/>
                            <p:cNvSpPr/>
                            <p:nvPr/>
                          </p:nvSpPr>
                          <p:spPr>
                            <a:xfrm>
                              <a:off x="7902000" y="1594080"/>
                              <a:ext cx="131040" cy="1231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320" bIns="403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2" name=""/>
                            <p:cNvSpPr/>
                            <p:nvPr/>
                          </p:nvSpPr>
                          <p:spPr>
                            <a:xfrm>
                              <a:off x="7786440" y="1482840"/>
                              <a:ext cx="168480" cy="1573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3" name=""/>
                            <p:cNvSpPr/>
                            <p:nvPr/>
                          </p:nvSpPr>
                          <p:spPr>
                            <a:xfrm>
                              <a:off x="7905600" y="1591560"/>
                              <a:ext cx="115560" cy="288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04" name=""/>
                          <p:cNvSpPr/>
                          <p:nvPr/>
                        </p:nvSpPr>
                        <p:spPr>
                          <a:xfrm>
                            <a:off x="7751160" y="1634400"/>
                            <a:ext cx="246600" cy="231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5" name=""/>
                          <p:cNvSpPr/>
                          <p:nvPr/>
                        </p:nvSpPr>
                        <p:spPr>
                          <a:xfrm>
                            <a:off x="7751160" y="1785960"/>
                            <a:ext cx="166680" cy="1576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6" name=""/>
                          <p:cNvSpPr/>
                          <p:nvPr/>
                        </p:nvSpPr>
                        <p:spPr>
                          <a:xfrm>
                            <a:off x="7805520" y="1557360"/>
                            <a:ext cx="12240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7751160" y="1936080"/>
                          <a:ext cx="129240" cy="1198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8520" bIns="38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7635600" y="1442880"/>
                          <a:ext cx="168480" cy="1602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>
                          <a:off x="7793640" y="1895760"/>
                          <a:ext cx="8532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7776720" y="1523160"/>
                        <a:ext cx="4752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7480800" y="1334520"/>
                      <a:ext cx="400320" cy="759240"/>
                      <a:chOff x="7480800" y="1334520"/>
                      <a:chExt cx="400320" cy="75924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7518240" y="1787040"/>
                        <a:ext cx="324000" cy="306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7553880" y="1558080"/>
                        <a:ext cx="327240" cy="309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7480800" y="1334520"/>
                        <a:ext cx="245520" cy="234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7635600" y="1483200"/>
                        <a:ext cx="12924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7559280" y="1451520"/>
                        <a:ext cx="216360" cy="27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>
                        <a:off x="7663320" y="1841760"/>
                        <a:ext cx="141480" cy="7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7480800" y="2010960"/>
                      <a:ext cx="17208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7599960" y="1988280"/>
                      <a:ext cx="88920" cy="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0" name=""/>
                  <p:cNvSpPr/>
                  <p:nvPr/>
                </p:nvSpPr>
                <p:spPr>
                  <a:xfrm>
                    <a:off x="7103880" y="2184120"/>
                    <a:ext cx="20628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7284600" y="2184120"/>
                    <a:ext cx="17352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391880" y="2123640"/>
                    <a:ext cx="16884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7236720" y="2086560"/>
                    <a:ext cx="36324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5715000" y="1340280"/>
                  <a:ext cx="579240" cy="719280"/>
                  <a:chOff x="5715000" y="1340280"/>
                  <a:chExt cx="579240" cy="71928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5715000" y="1442880"/>
                    <a:ext cx="308160" cy="424080"/>
                    <a:chOff x="5715000" y="1442880"/>
                    <a:chExt cx="308160" cy="42408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715000" y="1594800"/>
                      <a:ext cx="126000" cy="123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680" bIns="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740200" y="1709280"/>
                      <a:ext cx="170280" cy="157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775840" y="1442880"/>
                      <a:ext cx="247320" cy="235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757480" y="1606680"/>
                      <a:ext cx="88200" cy="13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816880" y="1340280"/>
                    <a:ext cx="477360" cy="719280"/>
                    <a:chOff x="5816880" y="1340280"/>
                    <a:chExt cx="477360" cy="71928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5970240" y="1371240"/>
                      <a:ext cx="324000" cy="307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5816880" y="1595160"/>
                      <a:ext cx="17244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5854320" y="1709640"/>
                      <a:ext cx="250560" cy="235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5934240" y="1821600"/>
                      <a:ext cx="240480" cy="237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5949720" y="1526040"/>
                      <a:ext cx="221400" cy="20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6145920" y="1340280"/>
                      <a:ext cx="12780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6019920" y="1477440"/>
                      <a:ext cx="1569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864760" y="1672560"/>
                      <a:ext cx="178920" cy="22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9" name=""/>
                  <p:cNvSpPr/>
                  <p:nvPr/>
                </p:nvSpPr>
                <p:spPr>
                  <a:xfrm>
                    <a:off x="6131160" y="1411560"/>
                    <a:ext cx="954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6008040" y="1219320"/>
                  <a:ext cx="1718280" cy="1217520"/>
                  <a:chOff x="6008040" y="1219320"/>
                  <a:chExt cx="1718280" cy="121752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6547320" y="1259640"/>
                    <a:ext cx="40572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898680" y="121932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7207560" y="1558440"/>
                    <a:ext cx="518760" cy="50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00640" y="1787760"/>
                    <a:ext cx="597240" cy="57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056000" y="1860120"/>
                    <a:ext cx="438120" cy="42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047280" y="1902960"/>
                    <a:ext cx="3222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008040" y="163584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6163200" y="1334520"/>
                    <a:ext cx="518760" cy="49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629040" y="1937520"/>
                    <a:ext cx="518760" cy="499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284600" y="1371600"/>
                    <a:ext cx="40428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7170120" y="1219320"/>
                    <a:ext cx="365040" cy="34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144480" y="1311120"/>
                    <a:ext cx="1487880" cy="9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3" name=""/>
              <p:cNvSpPr/>
              <p:nvPr/>
            </p:nvSpPr>
            <p:spPr>
              <a:xfrm>
                <a:off x="6298560" y="1705320"/>
                <a:ext cx="18072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553080" y="1447920"/>
              <a:ext cx="914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SDN (mit IN) oder 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81480" y="182880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6" name=""/>
            <p:cNvGraphicFramePr/>
            <p:nvPr/>
          </p:nvGraphicFramePr>
          <p:xfrm>
            <a:off x="8305920" y="2971800"/>
            <a:ext cx="457200" cy="195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5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305920" y="29718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8" name=""/>
            <p:cNvGraphicFramePr/>
            <p:nvPr/>
          </p:nvGraphicFramePr>
          <p:xfrm>
            <a:off x="7315200" y="2819520"/>
            <a:ext cx="609480" cy="533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15200" y="2819520"/>
                      <a:ext cx="60948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0" name=""/>
            <p:cNvSpPr/>
            <p:nvPr/>
          </p:nvSpPr>
          <p:spPr>
            <a:xfrm>
              <a:off x="7315200" y="2286000"/>
              <a:ext cx="30492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24680" y="1981080"/>
              <a:ext cx="53352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29200" y="2057400"/>
              <a:ext cx="1523880" cy="459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Administration des Diensteprofils (SCI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068120" y="3733920"/>
            <a:ext cx="1434960" cy="533160"/>
            <a:chOff x="1068120" y="3733920"/>
            <a:chExt cx="1434960" cy="533160"/>
          </a:xfrm>
        </p:grpSpPr>
        <p:sp>
          <p:nvSpPr>
            <p:cNvPr id="564" name=""/>
            <p:cNvSpPr/>
            <p:nvPr/>
          </p:nvSpPr>
          <p:spPr>
            <a:xfrm>
              <a:off x="1371600" y="3962520"/>
              <a:ext cx="838080" cy="304560"/>
            </a:xfrm>
            <a:prstGeom prst="leftArrow">
              <a:avLst>
                <a:gd name="adj1" fmla="val 50000"/>
                <a:gd name="adj2" fmla="val 6879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68120" y="373392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249960" y="3809880"/>
            <a:ext cx="1434960" cy="457200"/>
            <a:chOff x="6249960" y="3809880"/>
            <a:chExt cx="1434960" cy="457200"/>
          </a:xfrm>
        </p:grpSpPr>
        <p:sp>
          <p:nvSpPr>
            <p:cNvPr id="567" name=""/>
            <p:cNvSpPr/>
            <p:nvPr/>
          </p:nvSpPr>
          <p:spPr>
            <a:xfrm>
              <a:off x="6249960" y="3809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29400" y="3962520"/>
              <a:ext cx="837720" cy="304560"/>
            </a:xfrm>
            <a:prstGeom prst="leftArrow">
              <a:avLst>
                <a:gd name="adj1" fmla="val 50000"/>
                <a:gd name="adj2" fmla="val 6876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581280" y="1457280"/>
            <a:ext cx="1619280" cy="3038400"/>
            <a:chOff x="3581280" y="1457280"/>
            <a:chExt cx="1619280" cy="3038400"/>
          </a:xfrm>
        </p:grpSpPr>
        <p:grpSp>
          <p:nvGrpSpPr>
            <p:cNvPr id="570" name=""/>
            <p:cNvGrpSpPr/>
            <p:nvPr/>
          </p:nvGrpSpPr>
          <p:grpSpPr>
            <a:xfrm>
              <a:off x="3600360" y="1457280"/>
              <a:ext cx="1600200" cy="2352600"/>
              <a:chOff x="3600360" y="1457280"/>
              <a:chExt cx="1600200" cy="2352600"/>
            </a:xfrm>
          </p:grpSpPr>
          <p:sp>
            <p:nvSpPr>
              <p:cNvPr id="571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600360" y="1457280"/>
                <a:ext cx="1600200" cy="685800"/>
              </a:xfrm>
              <a:prstGeom prst="ellipse">
                <a:avLst/>
              </a:prstGeom>
              <a:solidFill>
                <a:srgbClr val="dddddd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C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419720" y="21337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3581280" y="3809880"/>
              <a:ext cx="1600200" cy="68580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33520" y="5029200"/>
            <a:ext cx="2057400" cy="800280"/>
            <a:chOff x="533520" y="5029200"/>
            <a:chExt cx="2057400" cy="800280"/>
          </a:xfrm>
        </p:grpSpPr>
        <p:sp>
          <p:nvSpPr>
            <p:cNvPr id="577" name=""/>
            <p:cNvSpPr/>
            <p:nvPr/>
          </p:nvSpPr>
          <p:spPr>
            <a:xfrm>
              <a:off x="182880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5370480"/>
              <a:ext cx="199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3808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6095880" y="4952880"/>
            <a:ext cx="1828800" cy="795600"/>
            <a:chOff x="6095880" y="4952880"/>
            <a:chExt cx="1828800" cy="795600"/>
          </a:xfrm>
        </p:grpSpPr>
        <p:sp>
          <p:nvSpPr>
            <p:cNvPr id="581" name=""/>
            <p:cNvSpPr/>
            <p:nvPr/>
          </p:nvSpPr>
          <p:spPr>
            <a:xfrm>
              <a:off x="6175440" y="5289480"/>
              <a:ext cx="1550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 und/oder IN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5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CCEA-25EF-4AD4-BC2D-28EBB25D818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B6D24-57E8-49A9-ACBF-514A0718E0E8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SM / GPRS /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8" name=""/>
          <p:cNvGrpSpPr/>
          <p:nvPr/>
        </p:nvGrpSpPr>
        <p:grpSpPr>
          <a:xfrm>
            <a:off x="533520" y="1447920"/>
            <a:ext cx="2895480" cy="1600200"/>
            <a:chOff x="533520" y="1447920"/>
            <a:chExt cx="2895480" cy="1600200"/>
          </a:xfrm>
        </p:grpSpPr>
        <p:sp>
          <p:nvSpPr>
            <p:cNvPr id="589" name=""/>
            <p:cNvSpPr/>
            <p:nvPr/>
          </p:nvSpPr>
          <p:spPr>
            <a:xfrm>
              <a:off x="2743200" y="2743200"/>
              <a:ext cx="6858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76520" y="2743200"/>
              <a:ext cx="533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533520" y="1447920"/>
              <a:ext cx="1218960" cy="1600200"/>
              <a:chOff x="533520" y="1447920"/>
              <a:chExt cx="1218960" cy="16002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533520" y="1447920"/>
                <a:ext cx="761760" cy="1218960"/>
                <a:chOff x="533520" y="1447920"/>
                <a:chExt cx="761760" cy="12189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609480" y="205740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"/>
                <p:cNvGrpSpPr/>
                <p:nvPr/>
              </p:nvGrpSpPr>
              <p:grpSpPr>
                <a:xfrm>
                  <a:off x="762120" y="1447920"/>
                  <a:ext cx="304200" cy="609480"/>
                  <a:chOff x="762120" y="1447920"/>
                  <a:chExt cx="304200" cy="60948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914400" y="144792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914400" y="144792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62120" y="144792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>
                  <a:off x="533520" y="213372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990720" y="1828800"/>
                <a:ext cx="761760" cy="1219320"/>
                <a:chOff x="990720" y="1828800"/>
                <a:chExt cx="761760" cy="12193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1066680" y="243864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1" name=""/>
                <p:cNvGrpSpPr/>
                <p:nvPr/>
              </p:nvGrpSpPr>
              <p:grpSpPr>
                <a:xfrm>
                  <a:off x="1219320" y="1828800"/>
                  <a:ext cx="304200" cy="609480"/>
                  <a:chOff x="1219320" y="1828800"/>
                  <a:chExt cx="304200" cy="60948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1371600" y="18288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1371600" y="182880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1219320" y="182880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5" name=""/>
                <p:cNvSpPr/>
                <p:nvPr/>
              </p:nvSpPr>
              <p:spPr>
                <a:xfrm>
                  <a:off x="990720" y="251460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6" name=""/>
            <p:cNvGrpSpPr/>
            <p:nvPr/>
          </p:nvGrpSpPr>
          <p:grpSpPr>
            <a:xfrm>
              <a:off x="1981080" y="2438280"/>
              <a:ext cx="914400" cy="609480"/>
              <a:chOff x="1981080" y="2438280"/>
              <a:chExt cx="914400" cy="609480"/>
            </a:xfrm>
          </p:grpSpPr>
          <p:sp>
            <p:nvSpPr>
              <p:cNvPr id="607" name=""/>
              <p:cNvSpPr/>
              <p:nvPr/>
            </p:nvSpPr>
            <p:spPr>
              <a:xfrm>
                <a:off x="2133720" y="2438280"/>
                <a:ext cx="609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81080" y="251460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RN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52480" y="16002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Arial Unicode MS"/>
                </a:rPr>
                <a:t>UM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657600" y="2133720"/>
            <a:ext cx="304920" cy="30456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80880" y="3276720"/>
            <a:ext cx="8458200" cy="2818800"/>
            <a:chOff x="380880" y="3276720"/>
            <a:chExt cx="8458200" cy="2818800"/>
          </a:xfrm>
        </p:grpSpPr>
        <p:grpSp>
          <p:nvGrpSpPr>
            <p:cNvPr id="612" name=""/>
            <p:cNvGrpSpPr/>
            <p:nvPr/>
          </p:nvGrpSpPr>
          <p:grpSpPr>
            <a:xfrm>
              <a:off x="990720" y="3276720"/>
              <a:ext cx="7848360" cy="2818800"/>
              <a:chOff x="990720" y="3276720"/>
              <a:chExt cx="7848360" cy="28188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990720" y="4495680"/>
                <a:ext cx="1218600" cy="1599840"/>
                <a:chOff x="990720" y="4495680"/>
                <a:chExt cx="1218600" cy="159984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990720" y="4495680"/>
                  <a:ext cx="761760" cy="1219320"/>
                  <a:chOff x="990720" y="4495680"/>
                  <a:chExt cx="761760" cy="121932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1066680" y="5105160"/>
                    <a:ext cx="609120" cy="6098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1218960" y="4495680"/>
                    <a:ext cx="304200" cy="609480"/>
                    <a:chOff x="1218960" y="4495680"/>
                    <a:chExt cx="304200" cy="60948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1371240" y="4495680"/>
                      <a:ext cx="0" cy="609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flipH="1">
                      <a:off x="1371240" y="4495680"/>
                      <a:ext cx="15192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1218960" y="4495680"/>
                      <a:ext cx="15228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0" name=""/>
                  <p:cNvSpPr/>
                  <p:nvPr/>
                </p:nvSpPr>
                <p:spPr>
                  <a:xfrm>
                    <a:off x="990720" y="518148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1447560" y="4876920"/>
                  <a:ext cx="761760" cy="1218600"/>
                  <a:chOff x="1447560" y="4876920"/>
                  <a:chExt cx="761760" cy="121860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1523520" y="5486040"/>
                    <a:ext cx="609120" cy="6094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1675800" y="4876920"/>
                    <a:ext cx="304200" cy="609120"/>
                    <a:chOff x="1675800" y="4876920"/>
                    <a:chExt cx="304200" cy="60912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1828080" y="4876920"/>
                      <a:ext cx="0" cy="6091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>
                      <a:off x="1828080" y="4876920"/>
                      <a:ext cx="15192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1675800" y="4876920"/>
                      <a:ext cx="15228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7" name=""/>
                  <p:cNvSpPr/>
                  <p:nvPr/>
                </p:nvSpPr>
                <p:spPr>
                  <a:xfrm>
                    <a:off x="1447560" y="556236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8" name=""/>
              <p:cNvGrpSpPr/>
              <p:nvPr/>
            </p:nvGrpSpPr>
            <p:grpSpPr>
              <a:xfrm>
                <a:off x="1676520" y="4419720"/>
                <a:ext cx="1752480" cy="1066320"/>
                <a:chOff x="1676520" y="4419720"/>
                <a:chExt cx="1752480" cy="10663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2590920" y="441972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362320" y="4572000"/>
                  <a:ext cx="106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1676520" y="4800600"/>
                  <a:ext cx="91440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1981080" y="4800240"/>
                  <a:ext cx="609840" cy="6858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3200400" y="3276720"/>
                <a:ext cx="5638680" cy="2514600"/>
                <a:chOff x="3200400" y="3276720"/>
                <a:chExt cx="5638680" cy="2514600"/>
              </a:xfrm>
            </p:grpSpPr>
            <p:sp>
              <p:nvSpPr>
                <p:cNvPr id="634" name=""/>
                <p:cNvSpPr/>
                <p:nvPr/>
              </p:nvSpPr>
              <p:spPr>
                <a:xfrm flipV="1">
                  <a:off x="5943600" y="3809880"/>
                  <a:ext cx="838080" cy="1522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867280" y="3962520"/>
                  <a:ext cx="91440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4114800" y="3962160"/>
                  <a:ext cx="106668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8862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7339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105520" y="3733920"/>
                  <a:ext cx="838080" cy="6098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029200" y="3810240"/>
                  <a:ext cx="990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G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4008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2485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200400" y="4876920"/>
                  <a:ext cx="685800" cy="15264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4191120" y="5105520"/>
                  <a:ext cx="838080" cy="398880"/>
                  <a:chOff x="4191120" y="5105520"/>
                  <a:chExt cx="838080" cy="39888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43434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1911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6705720" y="5105520"/>
                  <a:ext cx="838080" cy="398880"/>
                  <a:chOff x="6705720" y="5105520"/>
                  <a:chExt cx="838080" cy="39888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68580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7057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0" name=""/>
                <p:cNvSpPr/>
                <p:nvPr/>
              </p:nvSpPr>
              <p:spPr>
                <a:xfrm>
                  <a:off x="5334120" y="4724640"/>
                  <a:ext cx="838080" cy="106668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95680" y="4876920"/>
                  <a:ext cx="838440" cy="2286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6172200" y="5029200"/>
                  <a:ext cx="228600" cy="759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5000" y="43437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257800" y="5105520"/>
                  <a:ext cx="99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</a:rPr>
                    <a:t>HL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Cloud"/>
                <p:cNvSpPr/>
                <p:nvPr/>
              </p:nvSpPr>
              <p:spPr>
                <a:xfrm>
                  <a:off x="6553080" y="3276720"/>
                  <a:ext cx="2286000" cy="12286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934320" y="3810240"/>
                  <a:ext cx="1447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ISD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7" name=""/>
            <p:cNvSpPr/>
            <p:nvPr/>
          </p:nvSpPr>
          <p:spPr>
            <a:xfrm>
              <a:off x="2666880" y="5410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Arial Unicode MS"/>
                </a:rPr>
                <a:t>GS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80880" y="3505320"/>
              <a:ext cx="1362240" cy="838080"/>
              <a:chOff x="380880" y="3505320"/>
              <a:chExt cx="1362240" cy="838080"/>
            </a:xfrm>
          </p:grpSpPr>
          <p:pic>
            <p:nvPicPr>
              <p:cNvPr id="659" name="" descr="Zum Downloaden klicken"/>
              <p:cNvPicPr/>
              <p:nvPr/>
            </p:nvPicPr>
            <p:blipFill>
              <a:blip r:embed="rId3"/>
              <a:stretch/>
            </p:blipFill>
            <p:spPr>
              <a:xfrm>
                <a:off x="380880" y="350532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scanner2"/>
              <p:cNvSpPr/>
              <p:nvPr/>
            </p:nvSpPr>
            <p:spPr>
              <a:xfrm>
                <a:off x="914400" y="3733560"/>
                <a:ext cx="828720" cy="37584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761760" y="3962160"/>
                <a:ext cx="15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038480" y="3429000"/>
            <a:ext cx="2819520" cy="1295280"/>
            <a:chOff x="4038480" y="3429000"/>
            <a:chExt cx="2819520" cy="1295280"/>
          </a:xfrm>
        </p:grpSpPr>
        <p:sp>
          <p:nvSpPr>
            <p:cNvPr id="663" name=""/>
            <p:cNvSpPr/>
            <p:nvPr/>
          </p:nvSpPr>
          <p:spPr>
            <a:xfrm>
              <a:off x="40384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34120" y="3429000"/>
              <a:ext cx="304560" cy="30492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530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514600" y="1676520"/>
            <a:ext cx="6400800" cy="2742840"/>
            <a:chOff x="2514600" y="1676520"/>
            <a:chExt cx="6400800" cy="2742840"/>
          </a:xfrm>
        </p:grpSpPr>
        <p:sp>
          <p:nvSpPr>
            <p:cNvPr id="667" name=""/>
            <p:cNvSpPr/>
            <p:nvPr/>
          </p:nvSpPr>
          <p:spPr>
            <a:xfrm>
              <a:off x="4267080" y="30481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GP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Cloud"/>
            <p:cNvSpPr/>
            <p:nvPr/>
          </p:nvSpPr>
          <p:spPr>
            <a:xfrm>
              <a:off x="6629400" y="1676520"/>
              <a:ext cx="2286000" cy="1228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2514600" y="1981080"/>
              <a:ext cx="6095880" cy="2438280"/>
              <a:chOff x="2514600" y="1981080"/>
              <a:chExt cx="6095880" cy="2438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867280" y="2285640"/>
                <a:ext cx="76212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191120" y="2361960"/>
                <a:ext cx="914400" cy="38088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05520" y="1981080"/>
                <a:ext cx="761760" cy="609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590920" y="4038480"/>
                <a:ext cx="60948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14600" y="403848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</a:rPr>
                  <a:t>PC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2895480" y="2971440"/>
                <a:ext cx="914400" cy="10670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3352680" y="2438280"/>
                <a:ext cx="914400" cy="609480"/>
                <a:chOff x="3352680" y="2438280"/>
                <a:chExt cx="914400" cy="60948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428640" y="2438280"/>
                  <a:ext cx="762120" cy="60948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352680" y="251460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SGS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>
                <a:off x="4952880" y="2057040"/>
                <a:ext cx="106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GGS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10280" y="2057040"/>
                <a:ext cx="16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CAD1-99DE-4B27-AEA7-91DD5EB418A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E4129E-D19D-4E54-ADCC-41BEF7E24FC2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punkt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5" name=""/>
          <p:cNvGrpSpPr/>
          <p:nvPr/>
        </p:nvGrpSpPr>
        <p:grpSpPr>
          <a:xfrm>
            <a:off x="685800" y="1371600"/>
            <a:ext cx="7772040" cy="4724280"/>
            <a:chOff x="685800" y="1371600"/>
            <a:chExt cx="7772040" cy="4724280"/>
          </a:xfrm>
        </p:grpSpPr>
        <p:grpSp>
          <p:nvGrpSpPr>
            <p:cNvPr id="686" name=""/>
            <p:cNvGrpSpPr/>
            <p:nvPr/>
          </p:nvGrpSpPr>
          <p:grpSpPr>
            <a:xfrm>
              <a:off x="692280" y="1374840"/>
              <a:ext cx="7757640" cy="4717080"/>
              <a:chOff x="692280" y="1374840"/>
              <a:chExt cx="7757640" cy="471708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692280" y="1374840"/>
                <a:ext cx="2293920" cy="685800"/>
                <a:chOff x="692280" y="1374840"/>
                <a:chExt cx="2293920" cy="6858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92280" y="1374840"/>
                  <a:ext cx="229392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692280" y="1374840"/>
                  <a:ext cx="2293560" cy="685800"/>
                  <a:chOff x="692280" y="1374840"/>
                  <a:chExt cx="2293560" cy="68580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754920" y="1374840"/>
                    <a:ext cx="216828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reign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92280" y="1374840"/>
                    <a:ext cx="229356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2" name=""/>
              <p:cNvGrpSpPr/>
              <p:nvPr/>
            </p:nvGrpSpPr>
            <p:grpSpPr>
              <a:xfrm>
                <a:off x="2986560" y="1374840"/>
                <a:ext cx="3139560" cy="685800"/>
                <a:chOff x="2986560" y="1374840"/>
                <a:chExt cx="3139560" cy="6858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2986560" y="1374840"/>
                  <a:ext cx="313956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4" name=""/>
                <p:cNvGrpSpPr/>
                <p:nvPr/>
              </p:nvGrpSpPr>
              <p:grpSpPr>
                <a:xfrm>
                  <a:off x="2986560" y="1374840"/>
                  <a:ext cx="3139200" cy="685800"/>
                  <a:chOff x="2986560" y="1374840"/>
                  <a:chExt cx="3139200" cy="68580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3049560" y="1374840"/>
                    <a:ext cx="30128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Bemerkunge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986560" y="1374840"/>
                    <a:ext cx="313920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7" name=""/>
              <p:cNvGrpSpPr/>
              <p:nvPr/>
            </p:nvGrpSpPr>
            <p:grpSpPr>
              <a:xfrm>
                <a:off x="6126840" y="1374840"/>
                <a:ext cx="2323080" cy="685800"/>
                <a:chOff x="6126840" y="1374840"/>
                <a:chExt cx="2323080" cy="68580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126840" y="1374840"/>
                  <a:ext cx="232308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9" name=""/>
                <p:cNvGrpSpPr/>
                <p:nvPr/>
              </p:nvGrpSpPr>
              <p:grpSpPr>
                <a:xfrm>
                  <a:off x="6126840" y="1374840"/>
                  <a:ext cx="2322720" cy="685800"/>
                  <a:chOff x="6126840" y="1374840"/>
                  <a:chExt cx="2322720" cy="68580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>
                    <a:off x="6189480" y="1374840"/>
                    <a:ext cx="21974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Wert des XML-Parameter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&lt;Richtung&gt;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126840" y="1374840"/>
                    <a:ext cx="232272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2" name=""/>
              <p:cNvGrpSpPr/>
              <p:nvPr/>
            </p:nvGrpSpPr>
            <p:grpSpPr>
              <a:xfrm>
                <a:off x="692280" y="2060640"/>
                <a:ext cx="2293920" cy="686160"/>
                <a:chOff x="692280" y="2060640"/>
                <a:chExt cx="2293920" cy="68616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754920" y="2060640"/>
                  <a:ext cx="216864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mpfangen eine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92280" y="2060640"/>
                  <a:ext cx="229392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2986560" y="2060640"/>
                <a:ext cx="3139560" cy="686160"/>
                <a:chOff x="2986560" y="2060640"/>
                <a:chExt cx="3139560" cy="68616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3049560" y="2060640"/>
                  <a:ext cx="30132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nabhängig davon, ob  diese dem züA direkt zustellt oder in der Mailbox gespeichert werde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986560" y="2060640"/>
                  <a:ext cx="313956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6126840" y="2060640"/>
                <a:ext cx="2323080" cy="686160"/>
                <a:chOff x="6126840" y="2060640"/>
                <a:chExt cx="2323080" cy="68616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189480" y="2060640"/>
                  <a:ext cx="21978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126840" y="2060640"/>
                  <a:ext cx="232308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692280" y="2747160"/>
                <a:ext cx="2293920" cy="806040"/>
                <a:chOff x="692280" y="2747160"/>
                <a:chExt cx="2293920" cy="8060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754920" y="274716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bruf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92280" y="274716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2986560" y="2747160"/>
                <a:ext cx="3139560" cy="806040"/>
                <a:chOff x="2986560" y="2747160"/>
                <a:chExt cx="3139560" cy="8060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049560" y="274716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ruft eine E-Mail aus seiner Mailbox ab, vollständig oder teilweise (z.B. nur den 'Betreff')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986560" y="274716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6126840" y="2747160"/>
                <a:ext cx="2323080" cy="806040"/>
                <a:chOff x="6126840" y="2747160"/>
                <a:chExt cx="2323080" cy="8060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189480" y="274716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abgeruf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126840" y="274716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692280" y="3553200"/>
                <a:ext cx="2293920" cy="1046160"/>
                <a:chOff x="692280" y="3553200"/>
                <a:chExt cx="2293920" cy="104616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754920" y="3553200"/>
                  <a:ext cx="216864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chieben einer E-Mail innerhalb des E-Mail-Serv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92280" y="3553200"/>
                  <a:ext cx="229392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2986560" y="3553200"/>
                <a:ext cx="3139560" cy="1046160"/>
                <a:chOff x="2986560" y="3553200"/>
                <a:chExt cx="3139560" cy="104616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3049560" y="3553200"/>
                  <a:ext cx="30132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on der zu überwachenden E-Mailadresse wird innerhalb des E-Mail-Servers eine Email in eine Mailbox mit einer anderen Mailadresse kopiert oder umgekehr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986560" y="3553200"/>
                  <a:ext cx="313956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6126840" y="3553200"/>
                <a:ext cx="2323080" cy="1046160"/>
                <a:chOff x="6126840" y="3553200"/>
                <a:chExt cx="2323080" cy="10461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6189480" y="3553200"/>
                  <a:ext cx="21978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 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d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126840" y="3553200"/>
                  <a:ext cx="232308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692280" y="4599720"/>
                <a:ext cx="2293920" cy="806040"/>
                <a:chOff x="692280" y="4599720"/>
                <a:chExt cx="2293920" cy="8060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754920" y="459972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ende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inkl. Weiterleiten)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2280" y="459972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2986560" y="4599720"/>
                <a:ext cx="3139560" cy="806040"/>
                <a:chOff x="2986560" y="4599720"/>
                <a:chExt cx="3139560" cy="8060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560" y="459972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E-Mail-Server versendet eine empfangene oder eingestellte E-Mail.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986560" y="459972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6126840" y="4599720"/>
                <a:ext cx="2323080" cy="806040"/>
                <a:chOff x="6126840" y="4599720"/>
                <a:chExt cx="2323080" cy="8060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6189480" y="459972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126840" y="459972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92280" y="5406120"/>
                <a:ext cx="2293920" cy="685800"/>
                <a:chOff x="692280" y="5406120"/>
                <a:chExt cx="2293920" cy="6858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754920" y="5406120"/>
                  <a:ext cx="216864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instell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92280" y="5406120"/>
                  <a:ext cx="229392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2986560" y="5406120"/>
                <a:ext cx="3139560" cy="685800"/>
                <a:chOff x="2986560" y="5406120"/>
                <a:chExt cx="3139560" cy="6858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560" y="5406120"/>
                  <a:ext cx="30132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überträgt eine E-Mail an den E-Mail-Server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986560" y="5406120"/>
                  <a:ext cx="313956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6126840" y="5406120"/>
                <a:ext cx="2323080" cy="685800"/>
                <a:chOff x="6126840" y="5406120"/>
                <a:chExt cx="2323080" cy="68580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189480" y="5406120"/>
                  <a:ext cx="21978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ingestell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126840" y="5406120"/>
                  <a:ext cx="232308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685800" y="1371600"/>
              <a:ext cx="777204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733B-9733-41FA-8CF3-0D908B4414D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03244-C74C-4C5B-AFE9-7D836958F710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2:52:09Z</dcterms:created>
  <dc:creator>IS16</dc:creator>
  <dc:description/>
  <dc:language>en-US</dc:language>
  <cp:lastModifiedBy>Harald A. Summa</cp:lastModifiedBy>
  <dcterms:modified xsi:type="dcterms:W3CDTF">2002-11-29T13:59:58Z</dcterms:modified>
  <cp:revision>86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8633211</vt:r8>
  </property>
  <property fmtid="{D5CDD505-2E9C-101B-9397-08002B2CF9AE}" pid="3" name="_AuthorEmail">
    <vt:lpwstr>summa@eco.de</vt:lpwstr>
  </property>
  <property fmtid="{D5CDD505-2E9C-101B-9397-08002B2CF9AE}" pid="4" name="_AuthorEmailDisplayName">
    <vt:lpwstr>Harald A. Summa</vt:lpwstr>
  </property>
  <property fmtid="{D5CDD505-2E9C-101B-9397-08002B2CF9AE}" pid="5" name="_EmailSubject">
    <vt:lpwstr>Workshop TKÜV 22.11.02</vt:lpwstr>
  </property>
</Properties>
</file>